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4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48.jpeg" ContentType="image/jpeg"/>
  <Override PartName="/ppt/media/image49.jpeg" ContentType="image/jpeg"/>
  <Override PartName="/ppt/media/image40.jpeg" ContentType="image/jpeg"/>
  <Override PartName="/ppt/media/image13.jpeg" ContentType="image/jpeg"/>
  <Override PartName="/ppt/media/image38.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png" ContentType="image/png"/>
  <Override PartName="/ppt/media/image5.jpeg" ContentType="image/jpeg"/>
  <Override PartName="/ppt/media/image2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5E305-4EAE-4864-9331-58525CE9D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906EE-1F4F-48DC-AA01-5F4B060D0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D6ED5-FD6A-4F37-B358-92AF0137E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DB6B9-7C02-47CF-B5D1-3E55D5FE6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A930-95A6-4FEE-8C48-C698219EF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58AF7-6E8C-4ABD-938F-02F47972A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BE528-B797-4353-97A2-199F2CB4E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A062C-4117-45BD-8FF4-6A3065A36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B3F39-C8D8-4977-8407-D3AE60C37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B06F5-6AC9-46CE-B42C-595B3F9E1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8891-960C-4274-B953-658AE03C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55917-6D37-44AA-877F-89B3BB08F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F047-0EA1-4F19-A8BE-FFF974435479}"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2500200" y="276120"/>
            <a:ext cx="428652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000000"/>
                </a:solidFill>
                <a:latin typeface="comic"/>
                <a:ea typeface="Times New Roman"/>
              </a:rPr>
              <a:t>ETNOGRAFIA</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2" name="Picture 1" descr="http://zdjecia.swistak.pl/02/313/2313007_1_b.jpg"/>
          <p:cNvPicPr/>
          <p:nvPr/>
        </p:nvPicPr>
        <p:blipFill>
          <a:blip r:embed="rId1"/>
          <a:stretch/>
        </p:blipFill>
        <p:spPr>
          <a:xfrm>
            <a:off x="3000240" y="1714680"/>
            <a:ext cx="3214800" cy="3214440"/>
          </a:xfrm>
          <a:prstGeom prst="rect">
            <a:avLst/>
          </a:prstGeom>
          <a:ln w="0">
            <a:noFill/>
          </a:ln>
        </p:spPr>
      </p:pic>
      <p:sp>
        <p:nvSpPr>
          <p:cNvPr id="43" name="Rectangle 3"/>
          <p:cNvSpPr/>
          <p:nvPr/>
        </p:nvSpPr>
        <p:spPr>
          <a:xfrm>
            <a:off x="1285920" y="5391720"/>
            <a:ext cx="64022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Times New Roman"/>
              </a:rPr>
              <a:t>Kurs Organizatora Turystyki PTT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ole tekstowe 3"/>
          <p:cNvSpPr/>
          <p:nvPr/>
        </p:nvSpPr>
        <p:spPr>
          <a:xfrm>
            <a:off x="360360" y="108000"/>
            <a:ext cx="863928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dwudziestoleciu międzywojennym według ideologii ruchu ludowego nastawionego krytycznie wobec kultury miejskiej uznawanej za kosmopolityczną, zdegradowaną i aspołeczną, specyficzne cechy kultury ludowej (przywiązanie do ziemi, międzyludzka solidarność, etos pracy chłopskiej) miały kształtować charakter czesnego człowiek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 II Wojnie Światowej w 1949 roku powstała Cepelia, czyli Centrala Przemysłu Ludowego i Artystycznego. Była ona nastawiona na ,,produkcję” masową wytworów ludowych lub pseudoludowych, ale miała także wpływ pozytywny pozwalając wyżyć wielu autentycznym artystom z ich twórczoś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 name="Picture 2" descr="cepelia"/>
          <p:cNvPicPr/>
          <p:nvPr/>
        </p:nvPicPr>
        <p:blipFill>
          <a:blip r:embed="rId1"/>
          <a:stretch/>
        </p:blipFill>
        <p:spPr>
          <a:xfrm>
            <a:off x="642960" y="3500280"/>
            <a:ext cx="272556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ole tekstowe 3"/>
          <p:cNvSpPr/>
          <p:nvPr/>
        </p:nvSpPr>
        <p:spPr>
          <a:xfrm>
            <a:off x="360360" y="108000"/>
            <a:ext cx="863928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olsce Ludowej kultura ludowa uważana była za ważny nurt tradycji narodowej i znaczący element kultury współczesnej. Poddane selekcji dziedzictwo kultury ludowej stało się jednym z motywów kultury masowej, pełniącego poza funkcją ludyczną rolę narzędzia legitymizacji „ludowej” władz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Picture 2" descr="1983_krakowiak"/>
          <p:cNvPicPr/>
          <p:nvPr/>
        </p:nvPicPr>
        <p:blipFill>
          <a:blip r:embed="rId1"/>
          <a:stretch/>
        </p:blipFill>
        <p:spPr>
          <a:xfrm>
            <a:off x="785880" y="2428920"/>
            <a:ext cx="4508280" cy="29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ole tekstowe 3"/>
          <p:cNvSpPr/>
          <p:nvPr/>
        </p:nvSpPr>
        <p:spPr>
          <a:xfrm>
            <a:off x="360360" y="108000"/>
            <a:ext cx="8639280" cy="167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zależnie od doraźnych, politycznych potrzeb narzucających określone traktowanie kultury ludowej, w świadomości europejskiej obecnie jest od dawna przekonanie, że stanowi ona wzór kultury w ogóle, jako całość zintegrowana, ze spójną wizją świata i zaspokajająca najważniejsze potrzeby człowiek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 name="Picture 2" descr="m"/>
          <p:cNvPicPr/>
          <p:nvPr/>
        </p:nvPicPr>
        <p:blipFill>
          <a:blip r:embed="rId1"/>
          <a:stretch/>
        </p:blipFill>
        <p:spPr>
          <a:xfrm>
            <a:off x="500040" y="2214720"/>
            <a:ext cx="4071960" cy="304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ole tekstowe 3"/>
          <p:cNvSpPr/>
          <p:nvPr/>
        </p:nvSpPr>
        <p:spPr>
          <a:xfrm>
            <a:off x="360360" y="108000"/>
            <a:ext cx="8639280" cy="68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kanseny i muzea etnograficzne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 Parki Etnograficzn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ark Etnograficzny Kultury Rzeszowskiej w Kolbuszowej,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ądecki Park Etnograficzny w Nowym Sącz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szubski Park Etnograficzny we Wdzydzach Kiszewski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adwiślański Park Etnograficzny i Zamek Lipowiec w Wygiełzow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rawski Park Etnograficzny w Zubrzycy Górnej,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ielkopolski Park Etnograficzny w Lednogórze-Dziekanowica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Górnośląski Park Etnograficzny w Chorzow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ielonogórski Park Etnograficzny w Ochli,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Łowicki Park Etnograficzny w Maurzyca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urpiowski Park Etnograficzny im. Adama Chętnika w Nowogrodz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ark Etnograficzny Kultury Kujaw i Pomorza w Toruni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ujawsko Dobrzyński Park Etnograficzny w Kłóbce.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II. Muzea budownictwa ludowego:</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armii i Mazur w Olsztyn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 Sano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środek Budownictwa Ludowego w Szymbar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środek Plenerowy Budownictwa Ludowego w Łowicz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 Wolszty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Budownictwa Ludowego w Holi k. Sosnowicy (woj. chełmsk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Mazowiecko - Podlaski w Ciechanowc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Pastewnik" w Przewors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Architektury Drewnianej w Suchej k. Siedlec,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w Gosławicach k. Konin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ole tekstowe 3"/>
          <p:cNvSpPr/>
          <p:nvPr/>
        </p:nvSpPr>
        <p:spPr>
          <a:xfrm>
            <a:off x="360360" y="108000"/>
            <a:ext cx="8639280" cy="484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kanseny i muzea etnograficzne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II. Muzea wsi:</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Sieradzkiej w Sieradzu (w budow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Lubelskiej w Lubli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Opolskiej w Opolu-Bierkowicac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Pszczyńskiej w Pszczy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Radomskiej w Radomi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Mazowieckiej w Sierpc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Kieleckiej w Tokarni,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Białostockie Muzeum Wsi w Jurowcach k. Białegostok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Wsi Poskaliskiej w Tykadłowie k. Kalis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V. Muzea Specjalistyczne (Przemysłowo - Techniczn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Pszczelarstwa w Swarzędz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 Skansen Przemysłu Naftowego im. Ignacego Łukasiewicza w Bóbrce k.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rosn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Pszczelarski w Szrenia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ole tekstowe 3"/>
          <p:cNvSpPr/>
          <p:nvPr/>
        </p:nvSpPr>
        <p:spPr>
          <a:xfrm>
            <a:off x="360360" y="108000"/>
            <a:ext cx="8639280" cy="557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kanseny i muzea etnograficzne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V. Muzea Archeologiczno-Etnograficzn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Rezerwat Archeologiczno-Historyczny Kultury Łużyckiej w Biskupin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Kultury Ludowej w Osieku n. Notecią,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Grodzisko Ślężan w Będkowicach k. Sobót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VI. Zagrody "in situ":</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Sitarsko-Zamojska w Biłgoraju,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Czernikiewiczów w Bodzentynie k. Kielc,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Słowińska w Klukach k. Słupsk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Wiejska w Kakoninie k. Kielc,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asterska wieś letnia w Jurgowie k. Bukowiny Tatrzańskiej,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kansen w Kaszczorku k. Toruni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Chłopska w Nadolu k. Żarnowc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 - Zagroda Wincentego Witosa w Wierzchosławicach k. Tarn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uzeum-Zagroda Felicji Curyłowej w Zalipiu k. Tarn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groda Kurpiowska w Kadzidle k. Ostrołęki,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szubska zagroda w Sominach k. Byt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olana Pasterska Tatr Polskich w Witowie k. Chochołowa,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Chałupa podcieniowa w Starej Świętej k. Złotow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ole tekstowe 3"/>
          <p:cNvSpPr/>
          <p:nvPr/>
        </p:nvSpPr>
        <p:spPr>
          <a:xfrm>
            <a:off x="360360" y="108000"/>
            <a:ext cx="8639280" cy="50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niejszości narodowe i etniczne w Polsce stanowią kilka procent ludności kraju. </a:t>
            </a:r>
            <a:br>
              <a:rPr sz="1600"/>
            </a:br>
            <a:r>
              <a:rPr b="0" lang="pl-PL" sz="1600" spc="-1" strike="noStrike">
                <a:solidFill>
                  <a:srgbClr val="000000"/>
                </a:solidFill>
                <a:latin typeface="Calibri"/>
              </a:rPr>
              <a:t>Polska należy do tych państw europejskich, które mają ich najniższy odsetek. Jednak nie każda grupa etniczna, potocznie traktowana jako mniejszość narodowa lub etniczna jest nią </a:t>
            </a:r>
            <a:br>
              <a:rPr sz="1600"/>
            </a:br>
            <a:r>
              <a:rPr b="0" lang="pl-PL" sz="1600" spc="-1" strike="noStrike">
                <a:solidFill>
                  <a:srgbClr val="000000"/>
                </a:solidFill>
                <a:latin typeface="Calibri"/>
              </a:rPr>
              <a:t>w świetle obowiązującego w Polsce ustawodawstwa. Mniejszości narodowe i etniczne w Polsce definiuje </a:t>
            </a:r>
            <a:r>
              <a:rPr b="0" i="1" lang="pl-PL" sz="1600" spc="-1" strike="noStrike">
                <a:solidFill>
                  <a:srgbClr val="000000"/>
                </a:solidFill>
                <a:latin typeface="Calibri"/>
              </a:rPr>
              <a:t>ustawa z dnia 6 stycznia 2005 r. o mniejszościach narodowych i etnicznych oraz o języku regionalnym</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Art. 2, ust. 1</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Calibri"/>
              </a:rPr>
              <a:t>Mniejszością narodową</a:t>
            </a:r>
            <a:r>
              <a:rPr b="0" i="1" lang="pl-PL" sz="1600" spc="-1" strike="noStrike">
                <a:solidFill>
                  <a:srgbClr val="000000"/>
                </a:solidFill>
                <a:latin typeface="Calibri"/>
              </a:rPr>
              <a:t>, w rozumieniu ustawy, jest grupa obywateli polskich, która spełnia łącznie następujące warun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1)  jest mniej liczebna od pozostałej części ludności Rzeczypospolitej Pol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2)  w sposób istotny odróżnia się od pozostałych obywateli językiem, kulturą lub tradycj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3)  dąży do zachowania swojego języka, kultury lub tradyc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4)  ma świadomość własnej historycznej wspólnoty narodowej i jest ukierunkowana na jej wyrażanie 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ochron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5)  jej przodkowie zamieszkiwali obecne terytorium Rzeczypospolitej Polskiej od co najmniej 100 l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6)  utożsamia się z narodem zorganizowanym we własnym państw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ole tekstowe 3"/>
          <p:cNvSpPr/>
          <p:nvPr/>
        </p:nvSpPr>
        <p:spPr>
          <a:xfrm>
            <a:off x="360360" y="108000"/>
            <a:ext cx="8639280" cy="33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Art. 2, ust. 3</a:t>
            </a:r>
            <a:br>
              <a:rPr sz="1600"/>
            </a:br>
            <a:r>
              <a:rPr b="1" i="1" lang="pl-PL" sz="1600" spc="-1" strike="noStrike">
                <a:solidFill>
                  <a:srgbClr val="000000"/>
                </a:solidFill>
                <a:latin typeface="Calibri"/>
              </a:rPr>
              <a:t>Mniejszością etniczną</a:t>
            </a:r>
            <a:r>
              <a:rPr b="0" i="1" lang="pl-PL" sz="1600" spc="-1" strike="noStrike">
                <a:solidFill>
                  <a:srgbClr val="000000"/>
                </a:solidFill>
                <a:latin typeface="Calibri"/>
              </a:rPr>
              <a:t>, w rozumieniu ustawy, jest grupa obywateli polskich, która spełnia łącznie następujące warun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1)  jest mniej liczebna od pozostałej części ludności Rzeczypospolitej Pol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2)  w sposób istotny odróżnia się od pozostałych obywateli językiem, kulturą lub tradycj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3)  dąży do zachowania swojego języka, kultury lub tradyc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4)  ma świadomość własnej historycznej wspólnoty etnicznej i jest ukierunkowana na jej wyrażanie 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ochron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5)  jej przodkowie zamieszkiwali obecne terytorium Rzeczypospolitej Polskiej od co najmniej 100 l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  </a:t>
            </a:r>
            <a:r>
              <a:rPr b="0" i="1" lang="pl-PL" sz="1600" spc="-1" strike="noStrike">
                <a:solidFill>
                  <a:srgbClr val="000000"/>
                </a:solidFill>
                <a:latin typeface="Calibri"/>
              </a:rPr>
              <a:t>6)  nie utożsamia się z narodem zorganizowanym we własnym państwie.</a:t>
            </a:r>
            <a:r>
              <a:rPr b="0" lang="pl-PL" sz="1600" spc="-1" strike="noStrike" u="sng" baseline="30000">
                <a:solidFill>
                  <a:srgbClr val="000000"/>
                </a:solidFill>
                <a:uFillTx/>
                <a:latin typeface="Calibri"/>
              </a:rPr>
              <a:t>[2]</a:t>
            </a: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ole tekstowe 3"/>
          <p:cNvSpPr/>
          <p:nvPr/>
        </p:nvSpPr>
        <p:spPr>
          <a:xfrm>
            <a:off x="360360" y="108000"/>
            <a:ext cx="8639280" cy="362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wo polskie (Konstytucja RP, Ordynacja wyborcza, Ustawa o mniejszościach narodowych i etnicznych itp.) stwierdza m.in., ż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br>
              <a:rPr sz="1600"/>
            </a:br>
            <a:r>
              <a:rPr b="0" lang="pl-PL" sz="1600" spc="-1" strike="noStrike">
                <a:solidFill>
                  <a:srgbClr val="000000"/>
                </a:solidFill>
                <a:latin typeface="Calibri"/>
              </a:rPr>
              <a:t>"każda osoba należąca do mniejszości ma prawo do swobodnej decyzji o traktowaniu jej jako osoby należącej bądź też nienależącej do mniejszości, a wybór taki lub korzystanie ze związanych z tym wyborem praw nie pociąga za sobą jakichkolwiek niekorzystnych skutków" a „Rzeczpospolita Polska zapewnia obywatelom polskim należącym do mniejszości narodowych i etnicznych wolność zachowania i rozwoju własnego języka, zachowania obyczajów i tradycji oraz rozwoju własnej kultury. Mniejszości narodowe i etniczne mają prawo do tworzenia własnych instytucji edukacyjnych, kulturalnych i instytucji służących ochronie tożsamości religijnej oraz do uczestnictwa w rozstrzyganiu spraw dotyczących ich tożsamości kulturow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ole tekstowe 3"/>
          <p:cNvSpPr/>
          <p:nvPr/>
        </p:nvSpPr>
        <p:spPr>
          <a:xfrm>
            <a:off x="360360" y="108000"/>
            <a:ext cx="8639280" cy="33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narodowe 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nad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abrania się stosowania środków mających na celu asymilację osób należących do mniejszości, jeżeli środki te są stosowane wbrew ich woli oraz zabrania stosowania środków mających na celu zmianę proporcji narodowościowych lub etnicznych na obszarach zamieszkałych przez mniejszośc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puszcza używanie języka mniejszościowego, w wybranych gminach, jako języka pomocniczego, w kontaktach z organami gminy oraz w postępowaniu sądowym pierwszej instancj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kreśla, że obok ustalonych w języku polskim nazw geograficznych mogą być używane, jako nazwy dodatkowe, tradycyjne nazwy w języku mniejszości dla miejscowości, obiektów fizjograficznych oraz ul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ole tekstowe 3"/>
          <p:cNvSpPr/>
          <p:nvPr/>
        </p:nvSpPr>
        <p:spPr>
          <a:xfrm>
            <a:off x="360360" y="108000"/>
            <a:ext cx="8639280" cy="544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jęcia podstawow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Etnografia – nauka badająca, opisująca, analizująca przejawy kultury materialnej i duchowej ludu.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Etnologia – jedna z dyscyplin, obok </a:t>
            </a:r>
            <a:r>
              <a:rPr b="0" lang="pl-PL" sz="1600" spc="-1" strike="noStrike">
                <a:solidFill>
                  <a:srgbClr val="002060"/>
                </a:solidFill>
                <a:latin typeface="Calibri"/>
              </a:rPr>
              <a:t>etnografii, antropologii kulturowej i antropologii społecznej, wchodzących w zakres antropologii - nauki o człowieku i jego kulturz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rupa etniczna – zbiorowość, która postrzega siebie samą i postrzegana jest przez otaczające ją zbiorowości jako odrębną i specyficzną ze względu na jedną lub więcej cech takich jak:</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1. kulturę,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2. genealogię,</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3. poczucie posiadania własnego</a:t>
            </a:r>
            <a:r>
              <a:rPr b="0" lang="pl-PL" sz="1600" spc="-1" strike="noStrike">
                <a:solidFill>
                  <a:srgbClr val="002060"/>
                </a:solidFill>
                <a:latin typeface="Calibri"/>
              </a:rPr>
              <a:t> terytorium </a:t>
            </a:r>
            <a:r>
              <a:rPr b="0" lang="pl-PL" sz="1600" spc="-1" strike="noStrike">
                <a:solidFill>
                  <a:srgbClr val="000000"/>
                </a:solidFill>
                <a:latin typeface="Calibri"/>
              </a:rPr>
              <a:t>i praw do nieg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4. odrębność osobowościow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zowszanie, Podolanie, Górale Ruscy itp.)</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rupa etnograficzna – wyrasta z grupy etnicznej na danym terenie, obejmuje niewielki obszar ograniczony naturalnymi granicami (rzeki, las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p. Górale Ruscy, jako grupa etniczna, dzielą się na: Łemków, Bojków i Hucuł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ole tekstowe 3"/>
          <p:cNvSpPr/>
          <p:nvPr/>
        </p:nvSpPr>
        <p:spPr>
          <a:xfrm>
            <a:off x="360360" y="108000"/>
            <a:ext cx="863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dział Polski na grupy etnicz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4" name=""/>
          <p:cNvGraphicFramePr/>
          <p:nvPr/>
        </p:nvGraphicFramePr>
        <p:xfrm>
          <a:off x="2643120" y="4214880"/>
          <a:ext cx="3597480" cy="2019240"/>
        </p:xfrm>
        <a:graphic>
          <a:graphicData uri="http://schemas.openxmlformats.org/drawingml/2006/table">
            <a:tbl>
              <a:tblPr/>
              <a:tblGrid>
                <a:gridCol w="1787760"/>
                <a:gridCol w="1809720"/>
              </a:tblGrid>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 Bambrz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0. Górale Śląscy</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2. Biskupianie i Dzierża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1. Górale Żywieccy</a:t>
                      </a:r>
                      <a:endParaRPr b="0" lang="en-US" sz="1200" spc="-1" strike="noStrike">
                        <a:solidFill>
                          <a:srgbClr val="000000"/>
                        </a:solidFill>
                        <a:latin typeface="Arial"/>
                      </a:endParaRPr>
                    </a:p>
                  </a:txBody>
                  <a:tcPr anchor="ctr" marL="9360" marR="9360">
                    <a:lnL>
                      <a:noFill/>
                    </a:lnL>
                    <a:lnR>
                      <a:noFill/>
                    </a:lnR>
                    <a:lnT>
                      <a:noFill/>
                    </a:lnT>
                    <a:lnB>
                      <a:noFill/>
                    </a:lnB>
                    <a:noFill/>
                  </a:tcPr>
                </a:tc>
              </a:tr>
              <a:tr h="20304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3. Borowiacy i Puszczanie</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2. Hazacy</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4. Borowiacy Tuchols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3. Kliszczaki i Zagórzan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5. Chwalimia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4. Lachy i Wałasi</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6. Górale Babiogórs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5. Lachy Sądeck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7. Górale Podhalańs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6. Mazurzy Wieleńscy</a:t>
                      </a:r>
                      <a:endParaRPr b="0" lang="en-US" sz="1200" spc="-1" strike="noStrike">
                        <a:solidFill>
                          <a:srgbClr val="000000"/>
                        </a:solidFill>
                        <a:latin typeface="Arial"/>
                      </a:endParaRPr>
                    </a:p>
                  </a:txBody>
                  <a:tcPr anchor="ctr" marL="9360" marR="9360">
                    <a:lnL>
                      <a:noFill/>
                    </a:lnL>
                    <a:lnR>
                      <a:noFill/>
                    </a:lnR>
                    <a:lnT>
                      <a:noFill/>
                    </a:lnT>
                    <a:lnB>
                      <a:noFill/>
                    </a:lnB>
                    <a:noFill/>
                  </a:tcPr>
                </a:tc>
              </a:tr>
              <a:tr h="2034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8. Górale Sądec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7. Poborzan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9. Górale Szczawniccy</a:t>
                      </a:r>
                      <a:endParaRPr b="0" lang="en-US" sz="1200" spc="-1" strike="noStrike">
                        <a:solidFill>
                          <a:srgbClr val="000000"/>
                        </a:solidFill>
                        <a:latin typeface="Arial"/>
                      </a:endParaRPr>
                    </a:p>
                  </a:txBody>
                  <a:tcPr anchor="ctr" marL="9360" marR="9360">
                    <a:lnL>
                      <a:noFill/>
                    </a:lnL>
                    <a:lnR>
                      <a:noFill/>
                    </a:lnR>
                    <a:lnT>
                      <a:noFill/>
                    </a:lnT>
                    <a:lnB>
                      <a:no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18. Raciborzanie</a:t>
                      </a:r>
                      <a:endParaRPr b="0" lang="en-US" sz="1200" spc="-1" strike="noStrike">
                        <a:solidFill>
                          <a:srgbClr val="000000"/>
                        </a:solidFill>
                        <a:latin typeface="Arial"/>
                      </a:endParaRPr>
                    </a:p>
                  </a:txBody>
                  <a:tcPr anchor="ctr" marL="9360" marR="9360">
                    <a:lnL>
                      <a:noFill/>
                    </a:lnL>
                    <a:lnR>
                      <a:noFill/>
                    </a:lnR>
                    <a:lnT>
                      <a:noFill/>
                    </a:lnT>
                    <a:lnB>
                      <a:noFill/>
                    </a:lnB>
                    <a:noFill/>
                  </a:tcPr>
                </a:tc>
              </a:tr>
              <a:tr h="201600">
                <a:tc gridSpan="2">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Times New Roman"/>
                        </a:rPr>
                        <a:t>Oprac. na podstawie Encyklopedii Popularnej PWN</a:t>
                      </a:r>
                      <a:endParaRPr b="0" lang="en-US" sz="1200" spc="-1" strike="noStrike">
                        <a:solidFill>
                          <a:srgbClr val="000000"/>
                        </a:solidFill>
                        <a:latin typeface="Arial"/>
                      </a:endParaRPr>
                    </a:p>
                  </a:txBody>
                  <a:tcPr anchor="ctr"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85" name="Picture 1" descr="pr3"/>
          <p:cNvPicPr/>
          <p:nvPr/>
        </p:nvPicPr>
        <p:blipFill>
          <a:blip r:embed="rId1"/>
          <a:stretch/>
        </p:blipFill>
        <p:spPr>
          <a:xfrm>
            <a:off x="2786040" y="785880"/>
            <a:ext cx="3206880" cy="307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ole tekstowe 3"/>
          <p:cNvSpPr/>
          <p:nvPr/>
        </p:nvSpPr>
        <p:spPr>
          <a:xfrm>
            <a:off x="360360" y="108000"/>
            <a:ext cx="8639280" cy="609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zacowana liczebność mniejszości w Polsce po narodowym spisie powszechnych w 2002 r.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Grupa  </a:t>
            </a:r>
            <a:r>
              <a:rPr b="1" lang="pl-PL" sz="1200" spc="-1" strike="noStrike">
                <a:solidFill>
                  <a:srgbClr val="000000"/>
                </a:solidFill>
                <a:latin typeface="Calibri"/>
              </a:rPr>
              <a:t>	</a:t>
            </a:r>
            <a:r>
              <a:rPr b="1" lang="pl-PL" sz="1200" spc="-1" strike="noStrike">
                <a:solidFill>
                  <a:srgbClr val="000000"/>
                </a:solidFill>
                <a:latin typeface="Calibri"/>
              </a:rPr>
              <a:t>	</a:t>
            </a:r>
            <a:r>
              <a:rPr b="1" lang="pl-PL" sz="1200" spc="-1" strike="noStrike">
                <a:solidFill>
                  <a:srgbClr val="000000"/>
                </a:solidFill>
                <a:latin typeface="Calibri"/>
              </a:rPr>
              <a:t>Liczba osób     </a:t>
            </a:r>
            <a:r>
              <a:rPr b="1" lang="pl-PL" sz="1200" spc="-1" strike="noStrike">
                <a:solidFill>
                  <a:srgbClr val="000000"/>
                </a:solidFill>
                <a:latin typeface="Calibri"/>
              </a:rPr>
              <a:t>	</a:t>
            </a:r>
            <a:r>
              <a:rPr b="1" lang="pl-PL" sz="1200" spc="-1" strike="noStrike">
                <a:solidFill>
                  <a:srgbClr val="000000"/>
                </a:solidFill>
                <a:latin typeface="Calibri"/>
              </a:rPr>
              <a:t>	</a:t>
            </a:r>
            <a:r>
              <a:rPr b="1" lang="pl-PL" sz="1200" spc="-1" strike="noStrike">
                <a:solidFill>
                  <a:srgbClr val="000000"/>
                </a:solidFill>
                <a:latin typeface="Calibri"/>
              </a:rPr>
              <a:t>Zamieszkiwane (województw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lązacy                            </a:t>
            </a:r>
            <a:r>
              <a:rPr b="0" lang="pl-PL" sz="1200" spc="-1" strike="noStrike">
                <a:solidFill>
                  <a:srgbClr val="000000"/>
                </a:solidFill>
                <a:latin typeface="Calibri"/>
              </a:rPr>
              <a:t>	</a:t>
            </a:r>
            <a:r>
              <a:rPr b="0" lang="pl-PL" sz="1200" spc="-1" strike="noStrike">
                <a:solidFill>
                  <a:srgbClr val="000000"/>
                </a:solidFill>
                <a:latin typeface="Calibri"/>
              </a:rPr>
              <a:t>173 25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śląskie (86%), opolskie (14%)</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iem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52 89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opolskie (70%), śląskie (21%)</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ałorusin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48 73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odlaskie (95%)</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kraiń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30 95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warmińsko-mazurskie (39%); poza tym rozproszeni w zachodniopomorskim,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dolnośląskim, niewielkie ilości w podlaskim, lubelskim, podkarpackim</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omow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2 855</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dość równomiernie w całym kraju</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osjan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6 10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22%), podlaskie (16%)</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Łemkow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 86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dolnośląskie (53%)</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twin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 846</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odlaskie (88%)</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szub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 06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omorskie (99,9%)</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łowa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 001</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łopolskie (81%)</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etnamczy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808</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cuz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63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merykan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541</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ec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404</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łos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367</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Żydz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13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dolnoślą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ułgarz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11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b/d</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miani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 08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wielkopolskie, ślą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tarzy</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495</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głównie województwo podla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es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386</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łódzkie, śląskie, dolnośląskie</a:t>
            </a:r>
            <a:endParaRPr b="0" lang="en-US" sz="12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raim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45</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mazowieckie, dolnośląski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ole tekstowe 3"/>
          <p:cNvSpPr/>
          <p:nvPr/>
        </p:nvSpPr>
        <p:spPr>
          <a:xfrm>
            <a:off x="360360" y="108000"/>
            <a:ext cx="863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zacowana liczebność mniejszości w Polsce po narodowym spisie powszechnych w 2002 r.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Picture 2" descr="mniejszości koło"/>
          <p:cNvPicPr/>
          <p:nvPr/>
        </p:nvPicPr>
        <p:blipFill>
          <a:blip r:embed="rId1"/>
          <a:stretch/>
        </p:blipFill>
        <p:spPr>
          <a:xfrm>
            <a:off x="1643040" y="1785960"/>
            <a:ext cx="537516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ole tekstowe 3"/>
          <p:cNvSpPr/>
          <p:nvPr/>
        </p:nvSpPr>
        <p:spPr>
          <a:xfrm>
            <a:off x="360360" y="108000"/>
            <a:ext cx="8639280" cy="335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zacowana liczebność mniejszości w Polsce po narodowym spisie powszechnych w 2002 r.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zed II wojną światową według spisu z 1931 ludność niepolska stanowiła ponad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wg innych badaczy 35%) wszystkich mieszkańców Rzeczypospolitej czyli około 12 mln</a:t>
            </a:r>
            <a:br>
              <a:rPr sz="1600"/>
            </a:b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 Ukraińcy 13,9-16% około 5mln.</a:t>
            </a:r>
            <a:br>
              <a:rPr sz="1600"/>
            </a:br>
            <a:r>
              <a:rPr b="0" lang="pl-PL" sz="1600" spc="-1" strike="noStrike">
                <a:solidFill>
                  <a:srgbClr val="000000"/>
                </a:solidFill>
                <a:latin typeface="Calibri"/>
              </a:rPr>
              <a:t> - Żydzi 8,6-10%, około 3mln.</a:t>
            </a:r>
            <a:br>
              <a:rPr sz="1600"/>
            </a:br>
            <a:r>
              <a:rPr b="0" lang="pl-PL" sz="1600" spc="-1" strike="noStrike">
                <a:solidFill>
                  <a:srgbClr val="000000"/>
                </a:solidFill>
                <a:latin typeface="Calibri"/>
              </a:rPr>
              <a:t> - Białorusini 3,1-6% około 2mln.</a:t>
            </a:r>
            <a:br>
              <a:rPr sz="1600"/>
            </a:br>
            <a:r>
              <a:rPr b="0" lang="pl-PL" sz="1600" spc="-1" strike="noStrike">
                <a:solidFill>
                  <a:srgbClr val="000000"/>
                </a:solidFill>
                <a:latin typeface="Calibri"/>
              </a:rPr>
              <a:t> - Niemcy 2,3% około 750 tys.</a:t>
            </a:r>
            <a:br>
              <a:rPr sz="1600"/>
            </a:br>
            <a:r>
              <a:rPr b="0" lang="pl-PL" sz="1600" spc="-1" strike="noStrike">
                <a:solidFill>
                  <a:srgbClr val="000000"/>
                </a:solidFill>
                <a:latin typeface="Calibri"/>
              </a:rPr>
              <a:t> - Litwini 1% 200 tys.</a:t>
            </a:r>
            <a:br>
              <a:rPr sz="1600"/>
            </a:br>
            <a:r>
              <a:rPr b="0" lang="pl-PL" sz="1600" spc="-1" strike="noStrike">
                <a:solidFill>
                  <a:srgbClr val="000000"/>
                </a:solidFill>
                <a:latin typeface="Calibri"/>
              </a:rPr>
              <a:t> - Rosjanie 1%  140 t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ole tekstowe 3"/>
          <p:cNvSpPr/>
          <p:nvPr/>
        </p:nvSpPr>
        <p:spPr>
          <a:xfrm>
            <a:off x="360360" y="108000"/>
            <a:ext cx="863928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BIAŁORUSI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pl-PL" sz="1600" spc="-1" strike="noStrike">
                <a:solidFill>
                  <a:srgbClr val="000000"/>
                </a:solidFill>
                <a:latin typeface="Calibri"/>
              </a:rPr>
              <a:t>Około 200 - 300 tysięcy osób w większości tradycyjnie na terenie województwa podlaskiego (tam obecność we władzach samorządowych, radach powiatów i gmin),</a:t>
            </a:r>
            <a:br>
              <a:rPr sz="1600"/>
            </a:br>
            <a:r>
              <a:rPr b="0" lang="pl-PL" sz="1600" spc="-1" strike="noStrike">
                <a:solidFill>
                  <a:srgbClr val="000000"/>
                </a:solidFill>
                <a:latin typeface="Calibri"/>
              </a:rPr>
              <a:t>Zdecydowana większość należy do Polskiego Autokefalicznego Kościoła Prawosławnego, </a:t>
            </a:r>
            <a:br>
              <a:rPr sz="1600"/>
            </a:br>
            <a:r>
              <a:rPr b="0" lang="pl-PL" sz="1600" spc="-1" strike="noStrike">
                <a:solidFill>
                  <a:srgbClr val="000000"/>
                </a:solidFill>
                <a:latin typeface="Calibri"/>
              </a:rPr>
              <a:t>►  Główne organizacje: </a:t>
            </a:r>
            <a:br>
              <a:rPr sz="1600"/>
            </a:br>
            <a:r>
              <a:rPr b="0" lang="pl-PL" sz="1600" spc="-1" strike="noStrike">
                <a:solidFill>
                  <a:srgbClr val="000000"/>
                </a:solidFill>
                <a:latin typeface="Calibri"/>
              </a:rPr>
              <a:t>      · Białoruskie Towarzystwo Społeczno - Kulturalne, </a:t>
            </a:r>
            <a:br>
              <a:rPr sz="1600"/>
            </a:br>
            <a:r>
              <a:rPr b="0" lang="pl-PL" sz="1600" spc="-1" strike="noStrike">
                <a:solidFill>
                  <a:srgbClr val="000000"/>
                </a:solidFill>
                <a:latin typeface="Calibri"/>
              </a:rPr>
              <a:t>      · Związek Białoruski w RP, </a:t>
            </a:r>
            <a:br>
              <a:rPr sz="1600"/>
            </a:br>
            <a:r>
              <a:rPr b="0" lang="pl-PL" sz="1600" spc="-1" strike="noStrike">
                <a:solidFill>
                  <a:srgbClr val="000000"/>
                </a:solidFill>
                <a:latin typeface="Calibri"/>
              </a:rPr>
              <a:t>      · Związek Młodzieży Białoruskiej, </a:t>
            </a:r>
            <a:br>
              <a:rPr sz="1600"/>
            </a:br>
            <a:r>
              <a:rPr b="0" lang="pl-PL" sz="1600" spc="-1" strike="noStrike">
                <a:solidFill>
                  <a:srgbClr val="000000"/>
                </a:solidFill>
                <a:latin typeface="Calibri"/>
              </a:rPr>
              <a:t>      · Białoruskie Stowarzyszenie Literackie "Białowieża", </a:t>
            </a:r>
            <a:br>
              <a:rPr sz="1600"/>
            </a:br>
            <a:r>
              <a:rPr b="0" lang="pl-PL" sz="1600" spc="-1" strike="noStrike">
                <a:solidFill>
                  <a:srgbClr val="000000"/>
                </a:solidFill>
                <a:latin typeface="Calibri"/>
              </a:rPr>
              <a:t>      · Białoruskie Towarzystwo Historyczne, </a:t>
            </a:r>
            <a:br>
              <a:rPr sz="1600"/>
            </a:br>
            <a:r>
              <a:rPr b="0" lang="pl-PL" sz="1600" spc="-1" strike="noStrike">
                <a:solidFill>
                  <a:srgbClr val="000000"/>
                </a:solidFill>
                <a:latin typeface="Calibri"/>
              </a:rPr>
              <a:t>      · Stowarzyszenie Dziennikarzy Białoruskich, </a:t>
            </a:r>
            <a:br>
              <a:rPr sz="1600"/>
            </a:br>
            <a:r>
              <a:rPr b="0" lang="pl-PL" sz="1600" spc="-1" strike="noStrike">
                <a:solidFill>
                  <a:srgbClr val="000000"/>
                </a:solidFill>
                <a:latin typeface="Calibri"/>
              </a:rPr>
              <a:t>      · Białoruskie Zrzeszenie Studentów. </a:t>
            </a:r>
            <a:br>
              <a:rPr sz="1600"/>
            </a:br>
            <a:r>
              <a:rPr b="0" lang="pl-PL" sz="1600" spc="-1" strike="noStrike">
                <a:solidFill>
                  <a:srgbClr val="000000"/>
                </a:solidFill>
                <a:latin typeface="Calibri"/>
              </a:rPr>
              <a:t>► Najważniejsze tytuły prasowe: </a:t>
            </a:r>
            <a:br>
              <a:rPr sz="1600"/>
            </a:br>
            <a:r>
              <a:rPr b="0" lang="pl-PL" sz="1600" spc="-1" strike="noStrike">
                <a:solidFill>
                  <a:srgbClr val="000000"/>
                </a:solidFill>
                <a:latin typeface="Calibri"/>
              </a:rPr>
              <a:t>      · "Niwa" - tygodnik, </a:t>
            </a:r>
            <a:br>
              <a:rPr sz="1600"/>
            </a:br>
            <a:r>
              <a:rPr b="0" lang="pl-PL" sz="1600" spc="-1" strike="noStrike">
                <a:solidFill>
                  <a:srgbClr val="000000"/>
                </a:solidFill>
                <a:latin typeface="Calibri"/>
              </a:rPr>
              <a:t>      · "Czasopis" - miesięcznik, </a:t>
            </a:r>
            <a:br>
              <a:rPr sz="1600"/>
            </a:br>
            <a:r>
              <a:rPr b="0" lang="pl-PL" sz="1600" spc="-1" strike="noStrike">
                <a:solidFill>
                  <a:srgbClr val="000000"/>
                </a:solidFill>
                <a:latin typeface="Calibri"/>
              </a:rPr>
              <a:t>      · "Białoruskie Zeszyty Historyczne" - półrocznik, </a:t>
            </a:r>
            <a:br>
              <a:rPr sz="1600"/>
            </a:br>
            <a:r>
              <a:rPr b="0" lang="pl-PL" sz="1600" spc="-1" strike="noStrike">
                <a:solidFill>
                  <a:srgbClr val="000000"/>
                </a:solidFill>
                <a:latin typeface="Calibri"/>
              </a:rPr>
              <a:t>► Największe imprezy kulturalne: </a:t>
            </a:r>
            <a:br>
              <a:rPr sz="1600"/>
            </a:br>
            <a:r>
              <a:rPr b="0" lang="pl-PL" sz="1600" spc="-1" strike="noStrike">
                <a:solidFill>
                  <a:srgbClr val="000000"/>
                </a:solidFill>
                <a:latin typeface="Calibri"/>
              </a:rPr>
              <a:t>      · Festiwal Białoruskiej Muzyki Młodzieżowej "Basowiszcza", </a:t>
            </a:r>
            <a:br>
              <a:rPr sz="1600"/>
            </a:br>
            <a:r>
              <a:rPr b="0" lang="pl-PL" sz="1600" spc="-1" strike="noStrike">
                <a:solidFill>
                  <a:srgbClr val="000000"/>
                </a:solidFill>
                <a:latin typeface="Calibri"/>
              </a:rPr>
              <a:t>      · Festiwal "Piosenka Białoruska" w Białymstoku, </a:t>
            </a:r>
            <a:br>
              <a:rPr sz="1600"/>
            </a:br>
            <a:r>
              <a:rPr b="0" lang="pl-PL" sz="1600" spc="-1" strike="noStrike">
                <a:solidFill>
                  <a:srgbClr val="000000"/>
                </a:solidFill>
                <a:latin typeface="Calibri"/>
              </a:rPr>
              <a:t>      · Bielska Jesien Bardów, </a:t>
            </a:r>
            <a:br>
              <a:rPr sz="1600"/>
            </a:br>
            <a:r>
              <a:rPr b="0" lang="pl-PL" sz="1600" spc="-1" strike="noStrike">
                <a:solidFill>
                  <a:srgbClr val="000000"/>
                </a:solidFill>
                <a:latin typeface="Calibri"/>
              </a:rPr>
              <a:t>      · Święto Kultury Białoruskiej w Białymstoku, </a:t>
            </a:r>
            <a:br>
              <a:rPr sz="1600"/>
            </a:br>
            <a:r>
              <a:rPr b="0" lang="pl-PL" sz="1600" spc="-1" strike="noStrike">
                <a:solidFill>
                  <a:srgbClr val="000000"/>
                </a:solidFill>
                <a:latin typeface="Calibri"/>
              </a:rPr>
              <a:t>      · Święto "Kupalle" w Bialowieży. </a:t>
            </a:r>
            <a:endParaRPr b="0" lang="en-US" sz="1600" spc="-1" strike="noStrike">
              <a:solidFill>
                <a:srgbClr val="000000"/>
              </a:solidFill>
              <a:latin typeface="Arial"/>
            </a:endParaRPr>
          </a:p>
        </p:txBody>
      </p:sp>
      <p:pic>
        <p:nvPicPr>
          <p:cNvPr id="91" name="Picture 2" descr="main"/>
          <p:cNvPicPr/>
          <p:nvPr/>
        </p:nvPicPr>
        <p:blipFill>
          <a:blip r:embed="rId1"/>
          <a:stretch/>
        </p:blipFill>
        <p:spPr>
          <a:xfrm>
            <a:off x="6215040" y="2714760"/>
            <a:ext cx="2357640" cy="235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ZES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zodkowie obecnej mniejszości czeskiej przybyli na tereny obecnej Polski między XVI a XVIII wiekiem. Należeli do nich przede wszystkim ewangelicy, którzy uciekali ze swego kraju w wyniku prześladowań religijnych braci czeskich. Natomiast Czesi z ziemi kłodzkiej są autochtonami, ale w 1945 r. praktycznie wszyscy zostali ekspatriowani (chociaż oficjalnie wymiana ludności miała dotyczyć tylko Niemców, a nie innych narodowośc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dczas narodowego spisu powszechnego ludności w 2002 r., jako Czesi zadeklarowało się 386 obywateli Polski w ty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łódzkim – 11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śląskim – 6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dolnośląskim – 4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mazowieckim – 3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zesi w Polsce tradycyjnie są ewangelika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lacy czeskiego pochodzenia m.in. : Jan Matejko, Gustaw Holoubek, Leopold Staff.</a:t>
            </a:r>
            <a:endParaRPr b="0" lang="en-US" sz="1600" spc="-1" strike="noStrike">
              <a:solidFill>
                <a:srgbClr val="000000"/>
              </a:solidFill>
              <a:latin typeface="Arial"/>
            </a:endParaRPr>
          </a:p>
        </p:txBody>
      </p:sp>
      <p:sp>
        <p:nvSpPr>
          <p:cNvPr id="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1" descr=""/>
          <p:cNvPicPr/>
          <p:nvPr/>
        </p:nvPicPr>
        <p:blipFill>
          <a:blip r:embed="rId1"/>
          <a:stretch/>
        </p:blipFill>
        <p:spPr>
          <a:xfrm>
            <a:off x="5929200" y="3178080"/>
            <a:ext cx="2143080" cy="167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ole tekstowe 3"/>
          <p:cNvSpPr/>
          <p:nvPr/>
        </p:nvSpPr>
        <p:spPr>
          <a:xfrm>
            <a:off x="360360" y="108000"/>
            <a:ext cx="863928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LITWI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2002 r. przeprowadzony narodowy spis powszechnego ludności i mieszkań wykazał, że mniejszość litewska liczy 5 639 osób w tym: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podlaskim - 5 097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mazowieckim - 99,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warmińsko-mazurskim - 83,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pomorskim - 75,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zachodniopomorskim - 67,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 województwie dolnośląskim - 5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 terenie Suwalszczyzny spory udział we władzach samorządowy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uczanie języka litewskiego na wszystkich poziomach w 17 placówkach. Mniejszość litewska jest  jedyną mniejszością w Polsce, która jako model nauczania wybrała nauczanie prawie wszystkich przedmiotów w swoim języku ojczysty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znawcy Kościoła Rzymskokatolic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ażniejsze imprezy kulturaln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Jarmark Folklorystyczny "Żoline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Festiwal Teatrów Stodolany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Festiwal Teatrów Dziecięcy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ąskrydis - zlot litewskich zespołów nad jeziorem Gałduś,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oc Świętojańską w Puńsku,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Zlot Litwinów w Pszczelniku. </a:t>
            </a:r>
            <a:endParaRPr b="0" lang="en-US" sz="1600" spc="-1" strike="noStrike">
              <a:solidFill>
                <a:srgbClr val="000000"/>
              </a:solidFill>
              <a:latin typeface="Arial"/>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strój%20ludowy"/>
          <p:cNvPicPr/>
          <p:nvPr/>
        </p:nvPicPr>
        <p:blipFill>
          <a:blip r:embed="rId1"/>
          <a:stretch/>
        </p:blipFill>
        <p:spPr>
          <a:xfrm>
            <a:off x="6858000" y="4414680"/>
            <a:ext cx="1460520" cy="194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ole tekstowe 3"/>
          <p:cNvSpPr/>
          <p:nvPr/>
        </p:nvSpPr>
        <p:spPr>
          <a:xfrm>
            <a:off x="360360" y="108000"/>
            <a:ext cx="8639280" cy="544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NIEM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edług wyników spisu powszechnego z 2002 roku narodowość niemiecką deklarowało 152 897 osób (0,4% mieszkańców Polski), spośród których 147 094 miało obywatelstwo polski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cej Niemców zamieszkuje w województwie opolskim – 106 855 osób (69,9% wszystkich zamieszkałych w Polsce Niemców) oraz w województwie śląskim – 31 882 osób (20,8% ogółu Niemców w Polsce), w pozostałych województwach mieszka ich łącznie 14 160 (9,3% ogółu Niemców w Polsce). Znaczący udział w ogóle mieszkańców Niemcy mają tylko w województwie opolskim – 10%. W pozostałych województwach stanowią niewielki odsetek mieszkańców: 0,67% w województwie śląskim, 0,32% w warmińsko-mazurskim i 0,1% w pomorskim. Najniższy odsetek (0,005%) Niemcy stanowią w województwie lubelskim i świętokrzysk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niejszość we władzach samorządowych, w polskim Parlamencie od czasu wyborów uzupełniających do Senatu w lutym 1990 rok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Liczne szkoły dla  tej mniejszości narodow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iększość to katolicy, nieliczni deklarują protestantyz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ściół Ewangelicko - Augsburski). </a:t>
            </a:r>
            <a:endParaRPr b="0" lang="en-US" sz="1600" spc="-1" strike="noStrike">
              <a:solidFill>
                <a:srgbClr val="000000"/>
              </a:solidFill>
              <a:latin typeface="Arial"/>
            </a:endParaRPr>
          </a:p>
        </p:txBody>
      </p:sp>
      <p:sp>
        <p:nvSpPr>
          <p:cNvPr id="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2" descr="15_01_3"/>
          <p:cNvPicPr/>
          <p:nvPr/>
        </p:nvPicPr>
        <p:blipFill>
          <a:blip r:embed="rId1"/>
          <a:stretch/>
        </p:blipFill>
        <p:spPr>
          <a:xfrm>
            <a:off x="5715000" y="4397400"/>
            <a:ext cx="2514600" cy="231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ole tekstowe 3"/>
          <p:cNvSpPr/>
          <p:nvPr/>
        </p:nvSpPr>
        <p:spPr>
          <a:xfrm>
            <a:off x="360360" y="108000"/>
            <a:ext cx="8639280" cy="593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RMIAN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lonie ormiańskie powstałe około XI w. na Rusi Kijowskiej weszły w skład Państwa Polskiego za panowania Kazimierza Wielkiego. W 1356 roku kolonie w Kamieńcu Podolskim i we Lwowie uzyskały potwierdzenie swojej autonomii, a Lwów został siedzibą biskupa ormiańskiego. Po II wojnie światowej polscy Ormianie z dawnych kresów południowo-wschodnich w większości osiedlili się na południowej i wschodniej granicy Polski oraz w Gdańsku i Warsza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Liczbę Ormian w Polsce szacuje się na 40-80 tys. W tym ok. 8 tys. stanowią przedstawiciele tzw. starej emigracji (tj. potomków Ormian przybywających do Rzeczypospolitej XI-XVII w.), a pozostali to emigranci, którzy przybyli do Polski po II wojnie światowej, a zwłaszcza po upadku ZSRR (tzw. nowa emigracj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tolicy obrządku ormiańskiego lub łacińskiego</a:t>
            </a:r>
            <a:br>
              <a:rPr sz="1600"/>
            </a:br>
            <a:r>
              <a:rPr b="0" lang="pl-PL" sz="1600" spc="-1" strike="noStrike">
                <a:solidFill>
                  <a:srgbClr val="000000"/>
                </a:solidFill>
                <a:latin typeface="Calibri"/>
              </a:rPr>
              <a:t>duchowieństwo obrządku ormiańskiego w czas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ojny zostało niemal całkowicie wyniszcz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Obchody rocznicy ludobójstw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rmian w 1915 r., Ogólnopolskie Spotkan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Środowisk Ormiańskich w Krako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 descr="StoneCrossesA5"/>
          <p:cNvPicPr/>
          <p:nvPr/>
        </p:nvPicPr>
        <p:blipFill>
          <a:blip r:embed="rId1"/>
          <a:stretch/>
        </p:blipFill>
        <p:spPr>
          <a:xfrm>
            <a:off x="6918480" y="3786120"/>
            <a:ext cx="1796760" cy="2222640"/>
          </a:xfrm>
          <a:prstGeom prst="rect">
            <a:avLst/>
          </a:prstGeom>
          <a:ln w="0">
            <a:noFill/>
          </a:ln>
        </p:spPr>
      </p:pic>
      <p:pic>
        <p:nvPicPr>
          <p:cNvPr id="104" name="Picture 3" descr="ryc10"/>
          <p:cNvPicPr/>
          <p:nvPr/>
        </p:nvPicPr>
        <p:blipFill>
          <a:blip r:embed="rId2"/>
          <a:stretch/>
        </p:blipFill>
        <p:spPr>
          <a:xfrm>
            <a:off x="4786200" y="3814920"/>
            <a:ext cx="1917720" cy="268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ole tekstowe 3"/>
          <p:cNvSpPr/>
          <p:nvPr/>
        </p:nvSpPr>
        <p:spPr>
          <a:xfrm>
            <a:off x="360360" y="108000"/>
            <a:ext cx="8639280" cy="593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SJAN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 licznej przed II wojną światową mniejszości rosyjskiej (140 tysięcy osób) pozostało w 1945 roku 20-30 tysięcy. Jest to związane nie tylko ze zmianą granic, lecz także z obawą przed represjami ze strony sowieckiej, jakie mogłyby spaść na to środowisko. Obecnie Polskę zamieszkuje 10 do 13 tysięcy osób pochodzenia rosyjskiego, w tym 2,5 do 3 tysięcy stanowią starowier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ojewództwie mazowieckim podlaskim, dolnośląs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śląskim, zachodniopomorskim, pomorskim, łódz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ielkopolsk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eligia: prawosławie- należą do Pols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utokefalicznego Kościoła Prawosławnego. </a:t>
            </a:r>
            <a:br>
              <a:rPr sz="1600"/>
            </a:br>
            <a:r>
              <a:rPr b="0" lang="pl-PL" sz="1600" spc="-1" strike="noStrike">
                <a:solidFill>
                  <a:srgbClr val="000000"/>
                </a:solidFill>
                <a:latin typeface="Calibri"/>
              </a:rPr>
              <a:t>Oraz starowiercy - staroobrzędowcy zamieszkuj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trzech skupiskach w województwie warmińsko-mazurs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raz województwie podlaskim oraz w dużych miasta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Białymstoku, Łodzi i Warszawie przybywali od XIX 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kulturalne: Dni Kultury Rosyjski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nkurs Recytatorski Poezji Rosyjskiej, Konkurs Wiedzy o Ros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2" descr="moskwa9"/>
          <p:cNvPicPr/>
          <p:nvPr/>
        </p:nvPicPr>
        <p:blipFill>
          <a:blip r:embed="rId1"/>
          <a:stretch/>
        </p:blipFill>
        <p:spPr>
          <a:xfrm>
            <a:off x="6215040" y="2571840"/>
            <a:ext cx="1943280" cy="1466640"/>
          </a:xfrm>
          <a:prstGeom prst="rect">
            <a:avLst/>
          </a:prstGeom>
          <a:ln w="0">
            <a:noFill/>
          </a:ln>
        </p:spPr>
      </p:pic>
      <p:pic>
        <p:nvPicPr>
          <p:cNvPr id="108" name="Picture 3" descr="Okno[1]"/>
          <p:cNvPicPr/>
          <p:nvPr/>
        </p:nvPicPr>
        <p:blipFill>
          <a:blip r:embed="rId2"/>
          <a:stretch/>
        </p:blipFill>
        <p:spPr>
          <a:xfrm>
            <a:off x="6572160" y="4357800"/>
            <a:ext cx="1619280" cy="177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ole tekstowe 3"/>
          <p:cNvSpPr/>
          <p:nvPr/>
        </p:nvSpPr>
        <p:spPr>
          <a:xfrm>
            <a:off x="360360" y="108000"/>
            <a:ext cx="8639280" cy="66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olska kultura ludow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ultura ludowa</a:t>
            </a:r>
            <a:r>
              <a:rPr b="0" lang="pl-PL" sz="1600" spc="-1" strike="noStrike">
                <a:solidFill>
                  <a:srgbClr val="000000"/>
                </a:solidFill>
                <a:latin typeface="Calibri"/>
              </a:rPr>
              <a:t> to pojęcie często utożsamiane z folklorem. Mianem kultury ludowej określa się ogół wytworów społeczności lokalnej, związanych głównie ze sztuką, językiem. Elementem spajającym daną kulturę ludową jest wspólnota dziejowa (wspólna historia) i podobieństwo warunków życ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Badania kultury ludowej znajdują się w gestii etnografii i służą poznaniu warunków życia społeczności lokalnych. Wytwory kultury ludowej wykonane zgodnie z tradycją danej społeczności stają się dorobkiem sztuki ludowej. Zdarza się, że autorzy niemający wykształcenia artystycznego odnajdują osobisty język wypowiedzi twórczej i wtedy ich wytwory zalicza się do sztuk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la kultury ludowej charakterystyczne są takie elementy, jak:</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typowy dla danej społeczności strój - kolorowe suknie, kwiatowe wzory.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pecyficzna architektura i zdobienie wnętrz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działalność artystyczna oparta o tradycję i związane z nią wzornic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bursztyniarstwo kurpiowskie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tkac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hafciar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garncar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wal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malarstwo na szkle, naścienne, na meblach itp.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lecionkarstwo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rzeźba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obrzędy i obyczajowość</a:t>
            </a: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ole tekstowe 3"/>
          <p:cNvSpPr/>
          <p:nvPr/>
        </p:nvSpPr>
        <p:spPr>
          <a:xfrm>
            <a:off x="360360" y="108000"/>
            <a:ext cx="8639280" cy="61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ŁOWA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dczas narodowego spisu powszechnego ludności w 2002 r., jako Słowacy zadeklarowało się 1 710 obywateli Polski w tym: w województwie małopolskim - 1 572, województwie śląskim - 40 oraz województwie mazowieckim - 2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radycyjnie zajmują teren Spisza i Oraw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11 placówkach oświatowych języka słowackiego, jako ojczystego, uczy się 331 uczni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łowacy są w większości wiernymi kościoła rzymskokatolic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łówną organizacją zrzeszającą mniejszość słowacką je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owarzystwo Słowaków w Polsce. Wydawan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jest również miesięcznik -"Živ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mprezy kulturaln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Dzień Kultury Słowackiej w Jabłonce Orawskiej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rzegląd Krajańskich Orkiestr Dęty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Przegląd Zespołów Folklorystycznych w Krempachach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nkurs recytatorski Dzień poezji i prozy słowacki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2" descr="slowacki%20stroj%20ludowy"/>
          <p:cNvPicPr/>
          <p:nvPr/>
        </p:nvPicPr>
        <p:blipFill>
          <a:blip r:embed="rId1"/>
          <a:stretch/>
        </p:blipFill>
        <p:spPr>
          <a:xfrm>
            <a:off x="6000840" y="3857760"/>
            <a:ext cx="1714320" cy="2382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RAI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dczas narodowego spisu powszechnego ludności w 2002 r., zadeklarowało 27 172 obywateli RP w tym: w województwie warmińsko-mazurskim - 11 881, zachodniopomorskim - 3 703, podkarpackim - 2 984, pomorskim - 2 831, dolnośląskim - 1 422, podlaskim - 1 366, lubuskim - 615, mazowieckim - 579, małopolskim - 472, lubelskim - 389, śląskim – 3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ielu przedstawicieli mniejszości zasiada we władzach samorządowych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106 placówkach oświatowych języka ukraińskiego, jako ojczystego, uczy się 2007 uczni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Ukraińcy są w większości wiernymi dwóch Kościołów: Kościoła Katolickiego Obrządku Greckokatolickiego i Polskiego Autokefalicznego Kościoła Prawosławn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kulturalne: "Festiwal Kultury Ukraińskiej" w Sopocie, Młodzieżowy Jarmark" w Gdańsku, Festiwal Kultury Ukraińskiej UKRAINA VIVA we Wrocławiu, "Na Iwana, na Kupała" w Dubiczach Cerkiewny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ole tekstowe 3"/>
          <p:cNvSpPr/>
          <p:nvPr/>
        </p:nvSpPr>
        <p:spPr>
          <a:xfrm>
            <a:off x="360360" y="108000"/>
            <a:ext cx="863928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rótki przegląd mniejszości narodowych w Pols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ŻYDZ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ecni w Polsce już od średniowiecza – zazwyczaj pokojowo, chociaż zdarzały się okresy krwawych pogromów.</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niku hitlerowskiej eksterminacji narodu żydowskiego nacja ta zniknęła niemal całkowicie z terenów Polski (z 3,5-milionowej społeczności pozostało około 300 tys. osób; wielu opuściło Polskę po wojnie lub pod koniec lat sześćdziesiątych – podczas użycia żydowskiego tematu do rozgrywek polityczny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skupiska dziś: w województwie mazowieck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lnośląskim, śląskie, łódzkim, małopolskim mieszkaj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rozproszeniu, przede wszystkim w dużych miasta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hebrajski i jidysz -języki ojczyste uczone w prywatny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zkołach i fundacja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eligia mojżeszow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imprezy: Festiwal Kultury Żydowskiej w Krakow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rsz Żywych w Oświęcimiu,  Dzień Pamięci Ofiar Shoa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ni Książki Żydowskiej w Warszawie, Obchody Rocznic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stania w Getcie Warszawsk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RemuhSynagogue1"/>
          <p:cNvPicPr/>
          <p:nvPr/>
        </p:nvPicPr>
        <p:blipFill>
          <a:blip r:embed="rId1"/>
          <a:stretch/>
        </p:blipFill>
        <p:spPr>
          <a:xfrm>
            <a:off x="5857920" y="2916360"/>
            <a:ext cx="2336760" cy="1726920"/>
          </a:xfrm>
          <a:prstGeom prst="rect">
            <a:avLst/>
          </a:prstGeom>
          <a:ln w="0">
            <a:noFill/>
          </a:ln>
        </p:spPr>
      </p:pic>
      <p:pic>
        <p:nvPicPr>
          <p:cNvPr id="117" name="Picture 3" descr="chasydzi-5"/>
          <p:cNvPicPr/>
          <p:nvPr/>
        </p:nvPicPr>
        <p:blipFill>
          <a:blip r:embed="rId2"/>
          <a:stretch/>
        </p:blipFill>
        <p:spPr>
          <a:xfrm>
            <a:off x="5715000" y="471492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le tekstowe 3"/>
          <p:cNvSpPr/>
          <p:nvPr/>
        </p:nvSpPr>
        <p:spPr>
          <a:xfrm>
            <a:off x="360360" y="108000"/>
            <a:ext cx="8639280" cy="715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RAIM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kreślenie "Karaimi", podobnie jak "Żydzi" ma dwojaki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wiązane ze sobą znaczenia: odnosi się zarówno 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znawców religii karaimskiej, jak i członków karaimskieg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rodu. Podobnie zatem jak w przypadku Żydów, nazwa "Karaimi" zapisywana wielką literą dotyczy Karaimów jako narodu, zaś zapisywana małą literą - jako grupy religijnej</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g wyników ostatniego spisu powszechnego na terenie Polski mieszka ok. 120 Karaimów. Stanowią oni najmniejszą mniejszość etniczną kraju. Członków tej grupy religijno-narodowościowej zrzesza Karaimski Związek Religijny w RP i świecki Związek Karaimów Polskic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ymi skupiskami polskich Karaimów są: Wrocław (55 osób), Warszawa (41 osób), Wybrzeże (26 osób) oraz inne miejscowości. We Wrocławiu do 1989 roku działała jedyna w powojennej Polsce kienesa, prowadzona przez ostatniego polskiego hazzana Rafała Abkowicz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akkolwiek obecnie uczeni uważają, iż wszyscy karaimi są pochodzenia żydowskiego, polscy Karaimi odżegnują się od jakichkolwiek związków z narodem żydowskim, a nawet od jakichkolwiek związków z tymi karaimami, którzy tak nie robią (np. egipskimi). Przedstawiają się jako całkowicie odrębny naród, pochodzenia tureckiego, a wyznawaną przez siebie religię opisują w zupełnym oderwaniu od judaizmu.</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ęzykiem ojczystym polskich Karaimów jest język karaimski, należący do kipczackiej grupy języków tureckich, jednak obecnie zdecydowana większość polskich Karaimów na co dzień posługuje się językiem polskim, który z racji rozproszenia i niewielkiej liczebności narodu wyparł ich ojczystą mowę. Język karaimski zachował się w liturgii karaim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2" descr="Grafika:Warsaw Karaim cemetery.jpg"/>
          <p:cNvPicPr/>
          <p:nvPr/>
        </p:nvPicPr>
        <p:blipFill>
          <a:blip r:embed="rId1"/>
          <a:stretch/>
        </p:blipFill>
        <p:spPr>
          <a:xfrm>
            <a:off x="6215040" y="214200"/>
            <a:ext cx="2071800" cy="1554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ole tekstowe 3"/>
          <p:cNvSpPr/>
          <p:nvPr/>
        </p:nvSpPr>
        <p:spPr>
          <a:xfrm>
            <a:off x="360360" y="108000"/>
            <a:ext cx="8639280" cy="61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ŁEMKOWI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niejszość zamieszkująca historyczny region Galicji, Zakarpacia oraz północną część Słowacj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g ostatniego spisu powszechnego z 2002 w Polsce żyje ok. 6 tysięcy Łemków, z czego około dziesięciu procent mieszka na Łemkowszczyźnie. Do Polski przyjeżdżają Łemkowie z wielu krajów na różnego rodzaju festiwale, gdyż mają silne poczucie odrębności. Sami Łemkowie szacują swoją liczbę na dziesięciokrotnie większą niż w spisie, czyli około 60 ty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ontrowersyjną kwestią jest, czy gwary łemkowskie stanowi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drębny język, peryferyjne gwary języka ukraińs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zy też zachodnią odmianę języka rusińs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Łemkowie należą do dwóch Kościołów: Kościoła Katolic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rządku Greckokatolickiego oraz do Polskieg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utokefalicznego Kościoła Prawosławnego.</a:t>
            </a:r>
            <a:r>
              <a:rPr b="1"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iekawostka – sławni Łemkowi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Andy Warhol, malarz amerykański, syn łemkowskich emigrant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azwisko rodowe Warchola)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ikifor Krynicki, właśc. Epifaniusz Drowniak, malarz prymitywi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2" descr="Zespol_Folklorystyczny_KUDMIEN_1B"/>
          <p:cNvPicPr/>
          <p:nvPr/>
        </p:nvPicPr>
        <p:blipFill>
          <a:blip r:embed="rId1"/>
          <a:stretch/>
        </p:blipFill>
        <p:spPr>
          <a:xfrm>
            <a:off x="6143760" y="2857680"/>
            <a:ext cx="2400120" cy="1593720"/>
          </a:xfrm>
          <a:prstGeom prst="rect">
            <a:avLst/>
          </a:prstGeom>
          <a:ln w="0">
            <a:noFill/>
          </a:ln>
        </p:spPr>
      </p:pic>
      <p:pic>
        <p:nvPicPr>
          <p:cNvPr id="124" name="Picture 3" descr="cover"/>
          <p:cNvPicPr/>
          <p:nvPr/>
        </p:nvPicPr>
        <p:blipFill>
          <a:blip r:embed="rId2"/>
          <a:stretch/>
        </p:blipFill>
        <p:spPr>
          <a:xfrm>
            <a:off x="6572160" y="4643280"/>
            <a:ext cx="187956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MOWI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edług Narodowego Spisu Powszechnego z 2002 roku stanowiło ją 12 855 obywatel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iększe skupiska w województwie małopolskim, dolnośląskim, mazowieckim, śląskim, wielkopolskim , łódzkim.Tarnów - stolica Rom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omowie w Polsce należą do cztery głównych grup etnicznych: Polska Roma, Romowie Karpaccy, Kełderasze i Lowarz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owadzili niegdyś wędrowny tryb życia teraz osiedli w dużych miastach oraz Romowie Karpaccy (prowadzący osiadły tryb życia od kilkuset lat) zamieszkują górskie tereny woj. Małopolskiego a także w miastach Górnego i Dolnego Śląska i w Nowej Huc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znawcy Kościoła Rzymskokatolickiego, mniej wyznawc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wosławia i członkowie Kościoła Zielonoświątkowc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 Związku Świadków Jehow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2" descr="cygany_romowie"/>
          <p:cNvPicPr/>
          <p:nvPr/>
        </p:nvPicPr>
        <p:blipFill>
          <a:blip r:embed="rId1"/>
          <a:stretch/>
        </p:blipFill>
        <p:spPr>
          <a:xfrm>
            <a:off x="2629080" y="5113440"/>
            <a:ext cx="2514600" cy="1530360"/>
          </a:xfrm>
          <a:prstGeom prst="rect">
            <a:avLst/>
          </a:prstGeom>
          <a:ln w="0">
            <a:noFill/>
          </a:ln>
        </p:spPr>
      </p:pic>
      <p:pic>
        <p:nvPicPr>
          <p:cNvPr id="128" name="Picture 3" descr="fo_romowie_zd15"/>
          <p:cNvPicPr/>
          <p:nvPr/>
        </p:nvPicPr>
        <p:blipFill>
          <a:blip r:embed="rId2"/>
          <a:stretch/>
        </p:blipFill>
        <p:spPr>
          <a:xfrm>
            <a:off x="6215040" y="3929040"/>
            <a:ext cx="1879560" cy="2629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ole tekstowe 3"/>
          <p:cNvSpPr/>
          <p:nvPr/>
        </p:nvSpPr>
        <p:spPr>
          <a:xfrm>
            <a:off x="360360" y="108000"/>
            <a:ext cx="8639280" cy="520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etnicz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TATARZ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sadnictwo tatarskie na ziemiach Polski rozpoczęło się już na początku XIV-sprowadzenie Tatarów przez księcia Witolda Obecne osadnictwo związane zz migracjami z ZSRR po 1945 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 wojnie w granicach Polski pozostały 2 wsie tatarskie w dzisiejszym województwie podlaskim (Bohoniki i Kruszyniany), ponadto Tatarzy żyją rozproszeni w Gdańsku, Białymstoku, Warszawie i Gorzowie Wielkopolskim – łącznie ok. 3 t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atarzy w Polsce zatracili znajomość swojego ojczystego język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eligia: isla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d 28 grudnia 1925 działa Muzułmański Związek Religijn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 siedzibą w Białymstoku), a od 1992 Związek Tataró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zeczypospolitej Polskiej (z autonomicznymi oddziałam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Białymstoku i Gdańsk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kruszyniany"/>
          <p:cNvPicPr/>
          <p:nvPr/>
        </p:nvPicPr>
        <p:blipFill>
          <a:blip r:embed="rId1"/>
          <a:stretch/>
        </p:blipFill>
        <p:spPr>
          <a:xfrm>
            <a:off x="6000840" y="2786040"/>
            <a:ext cx="2228760" cy="1670040"/>
          </a:xfrm>
          <a:prstGeom prst="rect">
            <a:avLst/>
          </a:prstGeom>
          <a:ln w="0">
            <a:noFill/>
          </a:ln>
        </p:spPr>
      </p:pic>
      <p:pic>
        <p:nvPicPr>
          <p:cNvPr id="132" name="Picture 3" descr="tatarzy"/>
          <p:cNvPicPr/>
          <p:nvPr/>
        </p:nvPicPr>
        <p:blipFill>
          <a:blip r:embed="rId2"/>
          <a:stretch/>
        </p:blipFill>
        <p:spPr>
          <a:xfrm>
            <a:off x="6572160" y="4643280"/>
            <a:ext cx="1351080" cy="203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3"/>
          <p:cNvSpPr/>
          <p:nvPr/>
        </p:nvSpPr>
        <p:spPr>
          <a:xfrm>
            <a:off x="360360" y="108000"/>
            <a:ext cx="8639280" cy="625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niejszości wyznaniow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Katolicki: obrządek łaciński, obrządek bizantyńsko-ukraiński</a:t>
            </a:r>
            <a:br>
              <a:rPr sz="2000"/>
            </a:br>
            <a:r>
              <a:rPr b="0" lang="pl-PL" sz="2000" spc="-1" strike="noStrike">
                <a:solidFill>
                  <a:srgbClr val="000000"/>
                </a:solidFill>
                <a:latin typeface="Calibri"/>
              </a:rPr>
              <a:t>   (grecko-katolick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lski Autokefaliczny Kościół Prawosławny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Ewangelicko-Reformowa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Ewangelicko-Augsbursk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Ewangelicko- Metodystycz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Starokatolicki Mariawitów</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Katolicki Mariawitów</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schodni Kościół Staroobrzędow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Muzułmański Związek Religij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araimski Związek Religijn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Polskokatolick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Adwentystów Dnia Siódmego</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Chrześcijan Baptystów</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wiązek Gmin Wyznaniowych Żydowskich</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ściół Zielonoświątkow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Innych kościołów i związków religijnych wpisanych w rejestr MSWiA jest 15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ole tekstowe 3"/>
          <p:cNvSpPr/>
          <p:nvPr/>
        </p:nvSpPr>
        <p:spPr>
          <a:xfrm>
            <a:off x="360360" y="108000"/>
            <a:ext cx="8639280" cy="684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ościół wschodni – katolickie kościoły wschodn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atolickie Kościoły wschodnie</a:t>
            </a:r>
            <a:r>
              <a:rPr b="0" lang="pl-PL" sz="1600" spc="-1" strike="noStrike">
                <a:solidFill>
                  <a:srgbClr val="000000"/>
                </a:solidFill>
                <a:latin typeface="Calibri"/>
              </a:rPr>
              <a:t> – określenie Kościołów wschodnich, wchodzących w skład Kościoła katolickiego, które pozostają w jedności z Stolicą Apostolską, uznając władzę i autorytet papież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mal wszystkie z tych kościołów doszły do jedności z Rzymem w drodze unii kościelnej. Są więc również nazywane </a:t>
            </a:r>
            <a:r>
              <a:rPr b="1" lang="pl-PL" sz="1600" spc="-1" strike="noStrike">
                <a:solidFill>
                  <a:srgbClr val="000000"/>
                </a:solidFill>
                <a:latin typeface="Calibri"/>
              </a:rPr>
              <a:t>Kościołami unickimi</a:t>
            </a:r>
            <a:r>
              <a:rPr b="0" lang="pl-PL" sz="1600" spc="-1" strike="noStrike">
                <a:solidFill>
                  <a:srgbClr val="000000"/>
                </a:solidFill>
                <a:latin typeface="Calibri"/>
              </a:rPr>
              <a:t> (</a:t>
            </a:r>
            <a:r>
              <a:rPr b="0" i="1" lang="pl-PL" sz="1600" spc="-1" strike="noStrike">
                <a:solidFill>
                  <a:srgbClr val="000000"/>
                </a:solidFill>
                <a:latin typeface="Calibri"/>
              </a:rPr>
              <a:t>unio</a:t>
            </a:r>
            <a:r>
              <a:rPr b="0" lang="pl-PL" sz="1600" spc="-1" strike="noStrike">
                <a:solidFill>
                  <a:srgbClr val="000000"/>
                </a:solidFill>
                <a:latin typeface="Calibri"/>
              </a:rPr>
              <a:t> z łac. – zjednoczenie), a wierni (zwłaszcza grekokatolicy) – unitami. Termin ten, uważany przez prawosławnych za pejoratywny, jest obecnie zastępowany określeniem </a:t>
            </a:r>
            <a:r>
              <a:rPr b="1" lang="pl-PL" sz="1600" spc="-1" strike="noStrike">
                <a:solidFill>
                  <a:srgbClr val="000000"/>
                </a:solidFill>
                <a:latin typeface="Calibri"/>
              </a:rPr>
              <a:t>katolicy wschodni</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tolickie Kościoły Wschodnie to autonomiczne, partykularne kościoły, współzależne od Papieża. Mają one takie same podstawy wiary jak Katolicki Kościół Zachodni i nauczają takich samych kwestii dotyczących znaczenia i natury sakramentów, sukcesji apostolskiej i głównej roli biskupów rzymskich w obrębie Kolegium Biskupów. Różnią się jednak wykonywaniem czynności liturgicznych, sakramentalną i kanoniczną dyscypliną, terminologią, tradycyjnymi modlitwami a także praktykowaniem pobożnoś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chaldejs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koptyj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ormiań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tolicki kościół jakob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aron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elch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b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nk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oły greckokatolick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2" descr="http://www.sekowa.info/photo/object/cerkiew_duze.jpg"/>
          <p:cNvPicPr/>
          <p:nvPr/>
        </p:nvPicPr>
        <p:blipFill>
          <a:blip r:embed="rId1"/>
          <a:stretch/>
        </p:blipFill>
        <p:spPr>
          <a:xfrm>
            <a:off x="5214960" y="4286160"/>
            <a:ext cx="1785960" cy="2386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ole tekstowe 3"/>
          <p:cNvSpPr/>
          <p:nvPr/>
        </p:nvSpPr>
        <p:spPr>
          <a:xfrm>
            <a:off x="360360" y="108000"/>
            <a:ext cx="8639280" cy="684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Kościół wschodni – katolickie kościoły wschodn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atolickie Kościoły wschodnie</a:t>
            </a:r>
            <a:r>
              <a:rPr b="0" lang="pl-PL" sz="1600" spc="-1" strike="noStrike">
                <a:solidFill>
                  <a:srgbClr val="000000"/>
                </a:solidFill>
                <a:latin typeface="Calibri"/>
              </a:rPr>
              <a:t> – określenie Kościołów wschodnich, wchodzących w skład Kościoła katolickiego, które pozostają w jedności z Stolicą Apostolską, uznając władzę i autorytet papież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mal wszystkie z tych kościołów doszły do jedności z Rzymem w drodze unii kościelnej. Są więc również nazywane </a:t>
            </a:r>
            <a:r>
              <a:rPr b="1" lang="pl-PL" sz="1600" spc="-1" strike="noStrike">
                <a:solidFill>
                  <a:srgbClr val="000000"/>
                </a:solidFill>
                <a:latin typeface="Calibri"/>
              </a:rPr>
              <a:t>Kościołami unickimi</a:t>
            </a:r>
            <a:r>
              <a:rPr b="0" lang="pl-PL" sz="1600" spc="-1" strike="noStrike">
                <a:solidFill>
                  <a:srgbClr val="000000"/>
                </a:solidFill>
                <a:latin typeface="Calibri"/>
              </a:rPr>
              <a:t> (</a:t>
            </a:r>
            <a:r>
              <a:rPr b="0" i="1" lang="pl-PL" sz="1600" spc="-1" strike="noStrike">
                <a:solidFill>
                  <a:srgbClr val="000000"/>
                </a:solidFill>
                <a:latin typeface="Calibri"/>
              </a:rPr>
              <a:t>unio</a:t>
            </a:r>
            <a:r>
              <a:rPr b="0" lang="pl-PL" sz="1600" spc="-1" strike="noStrike">
                <a:solidFill>
                  <a:srgbClr val="000000"/>
                </a:solidFill>
                <a:latin typeface="Calibri"/>
              </a:rPr>
              <a:t> z łac. – zjednoczenie), a wierni (zwłaszcza grekokatolicy) – unitami. Termin ten, uważany przez prawosławnych za pejoratywny, jest obecnie zastępowany określeniem </a:t>
            </a:r>
            <a:r>
              <a:rPr b="1" lang="pl-PL" sz="1600" spc="-1" strike="noStrike">
                <a:solidFill>
                  <a:srgbClr val="000000"/>
                </a:solidFill>
                <a:latin typeface="Calibri"/>
              </a:rPr>
              <a:t>katolicy wschodni</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tolickie Kościoły Wschodnie to autonomiczne, partykularne kościoły, współzależne od Papieża. Mają one takie same podstawy wiary jak Katolicki Kościół Zachodni i nauczają takich samych kwestii dotyczących znaczenia i natury sakramentów, sukcesji apostolskiej i głównej roli biskupów rzymskich w obrębie Kolegium Biskupów. Różnią się jednak wykonywaniem czynności liturgicznych, sakramentalną i kanoniczną dyscypliną, terminologią, tradycyjnymi modlitwami a także praktykowaniem pobożnoś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chaldejs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koptyj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katolicki obrządku ormiańskiego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atolicki kościół jakob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aron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ół melchicki</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b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Syromalankarski Kościół Katolicki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Kościoły greckokatolick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www.sekowa.info/photo/object/cerkiew_duze.jpg"/>
          <p:cNvPicPr/>
          <p:nvPr/>
        </p:nvPicPr>
        <p:blipFill>
          <a:blip r:embed="rId1"/>
          <a:stretch/>
        </p:blipFill>
        <p:spPr>
          <a:xfrm>
            <a:off x="5214960" y="4286160"/>
            <a:ext cx="178596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ole tekstowe 3"/>
          <p:cNvSpPr/>
          <p:nvPr/>
        </p:nvSpPr>
        <p:spPr>
          <a:xfrm>
            <a:off x="360360" y="108000"/>
            <a:ext cx="8639280" cy="60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Zabawki drewniane XIX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Koszyki na ciasta chlebowe (Rzeszó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Dziadek do orzechów XX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DSC00864"/>
          <p:cNvPicPr/>
          <p:nvPr/>
        </p:nvPicPr>
        <p:blipFill>
          <a:blip r:embed="rId1"/>
          <a:stretch/>
        </p:blipFill>
        <p:spPr>
          <a:xfrm>
            <a:off x="4572000" y="785880"/>
            <a:ext cx="2514600" cy="1886040"/>
          </a:xfrm>
          <a:prstGeom prst="rect">
            <a:avLst/>
          </a:prstGeom>
          <a:ln w="0">
            <a:noFill/>
          </a:ln>
        </p:spPr>
      </p:pic>
      <p:pic>
        <p:nvPicPr>
          <p:cNvPr id="48" name="Picture 3" descr="DSC00861"/>
          <p:cNvPicPr/>
          <p:nvPr/>
        </p:nvPicPr>
        <p:blipFill>
          <a:blip r:embed="rId2"/>
          <a:stretch/>
        </p:blipFill>
        <p:spPr>
          <a:xfrm>
            <a:off x="285840" y="2928960"/>
            <a:ext cx="2400120" cy="1803240"/>
          </a:xfrm>
          <a:prstGeom prst="rect">
            <a:avLst/>
          </a:prstGeom>
          <a:ln w="0">
            <a:noFill/>
          </a:ln>
        </p:spPr>
      </p:pic>
      <p:pic>
        <p:nvPicPr>
          <p:cNvPr id="49" name="Picture 4" descr="Dziadek do orzechów na podstawce"/>
          <p:cNvPicPr/>
          <p:nvPr/>
        </p:nvPicPr>
        <p:blipFill>
          <a:blip r:embed="rId3"/>
          <a:stretch/>
        </p:blipFill>
        <p:spPr>
          <a:xfrm>
            <a:off x="7358040" y="2643120"/>
            <a:ext cx="1149480" cy="3454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3"/>
          <p:cNvSpPr/>
          <p:nvPr/>
        </p:nvSpPr>
        <p:spPr>
          <a:xfrm>
            <a:off x="360360" y="108000"/>
            <a:ext cx="8639280" cy="58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awosław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Prawosławie</a:t>
            </a:r>
            <a:r>
              <a:rPr b="0" lang="pl-PL" sz="1600" spc="-1" strike="noStrike">
                <a:solidFill>
                  <a:srgbClr val="000000"/>
                </a:solidFill>
                <a:latin typeface="Calibri"/>
              </a:rPr>
              <a:t> – doktryna ortodoksyjnego (gr. </a:t>
            </a:r>
            <a:r>
              <a:rPr b="0" i="1" lang="pl-PL" sz="1600" spc="-1" strike="noStrike">
                <a:solidFill>
                  <a:srgbClr val="000000"/>
                </a:solidFill>
                <a:latin typeface="Calibri"/>
              </a:rPr>
              <a:t>orthodoxos</a:t>
            </a:r>
            <a:r>
              <a:rPr b="0" lang="pl-PL" sz="1600" spc="-1" strike="noStrike">
                <a:solidFill>
                  <a:srgbClr val="000000"/>
                </a:solidFill>
                <a:latin typeface="Calibri"/>
              </a:rPr>
              <a:t> – prawdziwie, prawidłowo wierzący) Kościoła chrześcijańskiego – jednej z dwóch grup Kościołów, obok Kościoła rzymskokatolickiego, powstałych w wyniku rozłamu w Kościele chrześcijańskim z 1054 roku (tzw. schizmy wschodniej, lub - co uznaje się za historycznie bardziej uzasadnione – schizmy wielkiej).</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ktryna prawosławia opiera się na dekretach siedmiu pierwszych soborów powszechnych i przekazach ojców Kościoł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klucza prymat jakiegokolwiek biskupa (także papieża), a co za tym idzie uznanie jego nieomylności w sprawach wiary i moralnośc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wosławie uznaje liturgikę za istotną formę przekazu wiary, zgodnie z zasadą </a:t>
            </a:r>
            <a:r>
              <a:rPr b="0" i="1" lang="pl-PL" sz="1600" spc="-1" strike="noStrike">
                <a:solidFill>
                  <a:srgbClr val="000000"/>
                </a:solidFill>
                <a:latin typeface="Calibri"/>
              </a:rPr>
              <a:t>lex orandi lex credendi</a:t>
            </a:r>
            <a:r>
              <a:rPr b="0" lang="pl-PL" sz="1600" spc="-1" strike="noStrike">
                <a:solidFill>
                  <a:srgbClr val="000000"/>
                </a:solidFill>
                <a:latin typeface="Calibri"/>
              </a:rPr>
              <a:t> (łac. "reguła modlitwy jest regułą wiary"). Wynika to z podwójnego rozumienia określenia </a:t>
            </a:r>
            <a:r>
              <a:rPr b="0" i="1" lang="pl-PL" sz="1600" spc="-1" strike="noStrike">
                <a:solidFill>
                  <a:srgbClr val="000000"/>
                </a:solidFill>
                <a:latin typeface="Calibri"/>
              </a:rPr>
              <a:t>prawosławny</a:t>
            </a:r>
            <a:r>
              <a:rPr b="0" lang="pl-PL" sz="1600" spc="-1" strike="noStrike">
                <a:solidFill>
                  <a:srgbClr val="000000"/>
                </a:solidFill>
                <a:latin typeface="Calibri"/>
              </a:rPr>
              <a:t> – ktoś kto prawidłowo rozpoznaje Boga, ale jednocześnie ten, który w sposób prawidłowy oddaje mu chwałę (scs. </a:t>
            </a:r>
            <a:r>
              <a:rPr b="0" i="1" lang="pl-PL" sz="1600" spc="-1" strike="noStrike">
                <a:solidFill>
                  <a:srgbClr val="000000"/>
                </a:solidFill>
                <a:latin typeface="Calibri"/>
              </a:rPr>
              <a:t>sławit'</a:t>
            </a:r>
            <a:r>
              <a:rPr b="0" lang="pl-PL" sz="1600" spc="-1" strike="noStrike">
                <a:solidFill>
                  <a:srgbClr val="000000"/>
                </a:solidFill>
                <a:latin typeface="Calibri"/>
              </a:rPr>
              <a:t>, gr. </a:t>
            </a:r>
            <a:r>
              <a:rPr b="0" i="1" lang="pl-PL" sz="1600" spc="-1" strike="noStrike">
                <a:solidFill>
                  <a:srgbClr val="000000"/>
                </a:solidFill>
                <a:latin typeface="Calibri"/>
              </a:rPr>
              <a:t>doxios</a:t>
            </a:r>
            <a:r>
              <a:rPr b="0" lang="pl-PL" sz="1600" spc="-1" strike="noStrike">
                <a:solidFill>
                  <a:srgbClr val="000000"/>
                </a:solidFill>
                <a:latin typeface="Calibri"/>
              </a:rPr>
              <a:t>) podczas nabożeńst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ażniejszym obrządkiem w Cerkwi prawosławnej jest obrządek bizantyjski, ale dopuszcza się również inne (np. koptyjski lub tzw. ryt zachodni oparty o anglikańską </a:t>
            </a:r>
            <a:r>
              <a:rPr b="0" i="1" lang="pl-PL" sz="1600" spc="-1" strike="noStrike">
                <a:solidFill>
                  <a:srgbClr val="000000"/>
                </a:solidFill>
                <a:latin typeface="Calibri"/>
              </a:rPr>
              <a:t>The Book of Common Prayer</a:t>
            </a:r>
            <a:r>
              <a:rPr b="0" lang="pl-PL" sz="1600" spc="-1" strike="noStrike">
                <a:solidFill>
                  <a:srgbClr val="000000"/>
                </a:solidFill>
                <a:latin typeface="Calibri"/>
              </a:rPr>
              <a:t>). Istnieją wspólnoty prawosławne na Zachodzie, które uznają, że właściwe jest dla nich używanie obrządków zachodnich, takich jak ryt trydenc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le tekstowe 3"/>
          <p:cNvSpPr/>
          <p:nvPr/>
        </p:nvSpPr>
        <p:spPr>
          <a:xfrm>
            <a:off x="360360" y="108000"/>
            <a:ext cx="8639280" cy="149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awosław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rzyż prawosławny, tj. ośmioramienny – choć spotykany głównie w tradycji prawosławia słowiańskiego, funkcjonuje jako symbol dla całego prawosław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200px-OrthodoxCross"/>
          <p:cNvPicPr/>
          <p:nvPr/>
        </p:nvPicPr>
        <p:blipFill>
          <a:blip r:embed="rId1"/>
          <a:stretch/>
        </p:blipFill>
        <p:spPr>
          <a:xfrm>
            <a:off x="2643120" y="1643040"/>
            <a:ext cx="3143160" cy="4673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ole tekstowe 3"/>
          <p:cNvSpPr/>
          <p:nvPr/>
        </p:nvSpPr>
        <p:spPr>
          <a:xfrm>
            <a:off x="360360" y="108000"/>
            <a:ext cx="8639280" cy="392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nnym ważnym sposobem wyrażania tradycji jest sztuka. Ikony ma znaczenie nie tylko przedstawiające, jest także objawieniem Boga. Z tego powodu pisarze Ikon nie mają pełnej swobody twórczej i muszą uwzględniać ważne aspekty religijne swojego dzieła. </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szczególności istotne jest, żeby ikonograf (scs. </a:t>
            </a:r>
            <a:r>
              <a:rPr b="0" i="1" lang="pl-PL" sz="1600" spc="-1" strike="noStrike">
                <a:solidFill>
                  <a:srgbClr val="000000"/>
                </a:solidFill>
                <a:latin typeface="Calibri"/>
              </a:rPr>
              <a:t>ikonopisiec</a:t>
            </a:r>
            <a:r>
              <a:rPr b="0" lang="pl-PL" sz="1600" spc="-1" strike="noStrike">
                <a:solidFill>
                  <a:srgbClr val="000000"/>
                </a:solidFill>
                <a:latin typeface="Calibri"/>
              </a:rPr>
              <a:t>) był dobrym wiernym Kościoła, a sam akt twórczy był poprzedzony spowiedzią i przyjęciem eucharystii. Tworzenie Ikony jest modlitwą, stąd Ikonę się "pisze" a nie "maluje". Używa się kanonów barw i sposobów przedstawień ustalonych już w pierwszym wieku po Chrystus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kony są częścią tradycji prawosławia na równi z Biblią, soborami, ojcami Kościoła, liturgią i kanonami. Nazywa się je objawieniem bożym przedstawionym za pomocą kreski i barwy, jak w Piśmie Świętym słow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ole tekstowe 3"/>
          <p:cNvSpPr/>
          <p:nvPr/>
        </p:nvSpPr>
        <p:spPr>
          <a:xfrm>
            <a:off x="360360" y="108000"/>
            <a:ext cx="8639280" cy="58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a Zbawicie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jważniejszą ikoną jest ikona Chrystusa. Kanon przedstawiania Chrystusa przyjęto w IX w. Ikonografowie wyróżniają Chrystusa nimbem z wpisanym weń krzyżem z dziewięciu linii. Jego barwy: niebieska i czerwona mają swoją symbolikę, oznaczają boską i ziemską naturę Chrystusa. Przedstawiany jest on m.in. jak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antokrator (</a:t>
            </a:r>
            <a:r>
              <a:rPr b="0" i="1" lang="pl-PL" sz="1600" spc="-1" strike="noStrike">
                <a:solidFill>
                  <a:srgbClr val="000000"/>
                </a:solidFill>
                <a:latin typeface="Calibri"/>
              </a:rPr>
              <a:t>Wszechwładca</a:t>
            </a:r>
            <a:r>
              <a:rPr b="0" lang="pl-PL" sz="1600" spc="-1" strike="noStrike">
                <a:solidFill>
                  <a:srgbClr val="000000"/>
                </a:solidFill>
                <a:latin typeface="Calibri"/>
              </a:rPr>
              <a:t>, </a:t>
            </a:r>
            <a:r>
              <a:rPr b="0" i="1" lang="pl-PL" sz="1600" spc="-1" strike="noStrike">
                <a:solidFill>
                  <a:srgbClr val="000000"/>
                </a:solidFill>
                <a:latin typeface="Calibri"/>
              </a:rPr>
              <a:t>Pan wszystkiego</a:t>
            </a:r>
            <a:r>
              <a:rPr b="0" lang="pl-PL" sz="1600" spc="-1" strike="noStrike">
                <a:solidFill>
                  <a:srgbClr val="000000"/>
                </a:solidFill>
                <a:latin typeface="Calibri"/>
              </a:rPr>
              <a:t>, g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Παντοκρατωρ) – przedstawienie Jezusa Chrystus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ako władcy i sędziego Wszechświ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cheiropoietos (grec. </a:t>
            </a:r>
            <a:r>
              <a:rPr b="0" i="1" lang="pl-PL" sz="1600" spc="-1" strike="noStrike">
                <a:solidFill>
                  <a:srgbClr val="000000"/>
                </a:solidFill>
                <a:latin typeface="Calibri"/>
              </a:rPr>
              <a:t>Αχειροποίητος</a:t>
            </a:r>
            <a:r>
              <a:rPr b="0" lang="pl-PL" sz="1600" spc="-1" strike="noStrike">
                <a:solidFill>
                  <a:srgbClr val="000000"/>
                </a:solidFill>
                <a:latin typeface="Calibri"/>
              </a:rPr>
              <a:t>; ros. </a:t>
            </a:r>
            <a:r>
              <a:rPr b="0" i="1" lang="pl-PL" sz="1600" spc="-1" strike="noStrike">
                <a:solidFill>
                  <a:srgbClr val="000000"/>
                </a:solidFill>
                <a:latin typeface="Calibri"/>
              </a:rPr>
              <a:t>нерукотворный</a:t>
            </a: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nie ręką ludzką uczyniony) – najstarsze przedstawien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zusa Chrystusa w formie samej twarzy Zbawicie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 rozwiniętej chuśc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2" descr="Grafika:Ikona Jezusa.jpg"/>
          <p:cNvPicPr/>
          <p:nvPr/>
        </p:nvPicPr>
        <p:blipFill>
          <a:blip r:embed="rId1"/>
          <a:stretch/>
        </p:blipFill>
        <p:spPr>
          <a:xfrm>
            <a:off x="5572080" y="1714680"/>
            <a:ext cx="1727280" cy="2317680"/>
          </a:xfrm>
          <a:prstGeom prst="rect">
            <a:avLst/>
          </a:prstGeom>
          <a:ln w="0">
            <a:noFill/>
          </a:ln>
        </p:spPr>
      </p:pic>
      <p:pic>
        <p:nvPicPr>
          <p:cNvPr id="151" name="Picture 3" descr="Mandylion"/>
          <p:cNvPicPr/>
          <p:nvPr/>
        </p:nvPicPr>
        <p:blipFill>
          <a:blip r:embed="rId2"/>
          <a:stretch/>
        </p:blipFill>
        <p:spPr>
          <a:xfrm>
            <a:off x="5715000" y="4543560"/>
            <a:ext cx="136512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ole tekstowe 3"/>
          <p:cNvSpPr/>
          <p:nvPr/>
        </p:nvSpPr>
        <p:spPr>
          <a:xfrm>
            <a:off x="360360" y="108000"/>
            <a:ext cx="8639280" cy="36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a Trójcy Święt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anon ikony Trójcy św. oparty jest na XVIII rozdziale </a:t>
            </a:r>
            <a:r>
              <a:rPr b="0" i="1" lang="pl-PL" sz="1600" spc="-1" strike="noStrike">
                <a:solidFill>
                  <a:srgbClr val="000000"/>
                </a:solidFill>
                <a:latin typeface="Calibri"/>
              </a:rPr>
              <a:t>Księgi Rodzaju</a:t>
            </a:r>
            <a:r>
              <a:rPr b="0" lang="pl-PL" sz="1600" spc="-1" strike="noStrike">
                <a:solidFill>
                  <a:srgbClr val="000000"/>
                </a:solidFill>
                <a:latin typeface="Calibri"/>
              </a:rPr>
              <a:t>, gdzie pod dębem w Mamre Bóg objawił się Abrahamowi i Sarze pod postaciami trzech anioł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2" descr="Grafika:Rublevtrinität ubt.gif"/>
          <p:cNvPicPr/>
          <p:nvPr/>
        </p:nvPicPr>
        <p:blipFill>
          <a:blip r:embed="rId1"/>
          <a:stretch/>
        </p:blipFill>
        <p:spPr>
          <a:xfrm>
            <a:off x="2857680" y="1714680"/>
            <a:ext cx="3357360" cy="4316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ole tekstowe 3"/>
          <p:cNvSpPr/>
          <p:nvPr/>
        </p:nvSpPr>
        <p:spPr>
          <a:xfrm>
            <a:off x="360360" y="108000"/>
            <a:ext cx="8639280" cy="56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ost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Ikonostas</a:t>
            </a:r>
            <a:r>
              <a:rPr b="0" lang="pl-PL" sz="1600" spc="-1" strike="noStrike">
                <a:solidFill>
                  <a:srgbClr val="000000"/>
                </a:solidFill>
                <a:latin typeface="Calibri"/>
              </a:rPr>
              <a:t> (gr. </a:t>
            </a:r>
            <a:r>
              <a:rPr b="0" i="1" lang="pl-PL" sz="1600" spc="-1" strike="noStrike">
                <a:solidFill>
                  <a:srgbClr val="000000"/>
                </a:solidFill>
                <a:latin typeface="Calibri"/>
              </a:rPr>
              <a:t>eikón</a:t>
            </a:r>
            <a:r>
              <a:rPr b="0" lang="pl-PL" sz="1600" spc="-1" strike="noStrike">
                <a:solidFill>
                  <a:srgbClr val="000000"/>
                </a:solidFill>
                <a:latin typeface="Calibri"/>
              </a:rPr>
              <a:t> oznaczające </a:t>
            </a:r>
            <a:r>
              <a:rPr b="0" i="1" lang="pl-PL" sz="1600" spc="-1" strike="noStrike">
                <a:solidFill>
                  <a:srgbClr val="000000"/>
                </a:solidFill>
                <a:latin typeface="Calibri"/>
              </a:rPr>
              <a:t>obraz</a:t>
            </a:r>
            <a:r>
              <a:rPr b="0" lang="pl-PL" sz="1600" spc="-1" strike="noStrike">
                <a:solidFill>
                  <a:srgbClr val="000000"/>
                </a:solidFill>
                <a:latin typeface="Calibri"/>
              </a:rPr>
              <a:t> oraz </a:t>
            </a:r>
            <a:r>
              <a:rPr b="0" i="1" lang="pl-PL" sz="1600" spc="-1" strike="noStrike">
                <a:solidFill>
                  <a:srgbClr val="000000"/>
                </a:solidFill>
                <a:latin typeface="Calibri"/>
              </a:rPr>
              <a:t>stásis</a:t>
            </a:r>
            <a:r>
              <a:rPr b="0" lang="pl-PL" sz="1600" spc="-1" strike="noStrike">
                <a:solidFill>
                  <a:srgbClr val="000000"/>
                </a:solidFill>
                <a:latin typeface="Calibri"/>
              </a:rPr>
              <a:t> czyli </a:t>
            </a:r>
            <a:r>
              <a:rPr b="0" i="1" lang="pl-PL" sz="1600" spc="-1" strike="noStrike">
                <a:solidFill>
                  <a:srgbClr val="000000"/>
                </a:solidFill>
                <a:latin typeface="Calibri"/>
              </a:rPr>
              <a:t>pozycja, umiejscowienie</a:t>
            </a:r>
            <a:r>
              <a:rPr b="0" lang="pl-PL" sz="1600" spc="-1" strike="noStrike">
                <a:solidFill>
                  <a:srgbClr val="000000"/>
                </a:solidFill>
                <a:latin typeface="Calibri"/>
              </a:rPr>
              <a:t>) – ściana z ikonami, która w cerkwi oddziela miejsce ołtarzowe (</a:t>
            </a:r>
            <a:r>
              <a:rPr b="0" i="1" lang="pl-PL" sz="1600" spc="-1" strike="noStrike">
                <a:solidFill>
                  <a:srgbClr val="000000"/>
                </a:solidFill>
                <a:latin typeface="Calibri"/>
              </a:rPr>
              <a:t>swiatłyszcze</a:t>
            </a:r>
            <a:r>
              <a:rPr b="0" lang="pl-PL" sz="1600" spc="-1" strike="noStrike">
                <a:solidFill>
                  <a:srgbClr val="000000"/>
                </a:solidFill>
                <a:latin typeface="Calibri"/>
              </a:rPr>
              <a:t>, sanktuarium, prezbiterium) od nawy (</a:t>
            </a:r>
            <a:r>
              <a:rPr b="0" i="1" lang="pl-PL" sz="1600" spc="-1" strike="noStrike">
                <a:solidFill>
                  <a:srgbClr val="000000"/>
                </a:solidFill>
                <a:latin typeface="Calibri"/>
              </a:rPr>
              <a:t>naos</a:t>
            </a:r>
            <a:r>
              <a:rPr b="0" lang="pl-PL" sz="1600" spc="-1" strike="noStrike">
                <a:solidFill>
                  <a:srgbClr val="000000"/>
                </a:solidFill>
                <a:latin typeface="Calibri"/>
              </a:rPr>
              <a:t>), przeznaczonej dla wierny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edług nauki cerkwi prawosławnej sanktuarium jest symbolem nieba, miejsca szczególnego przebywania Boga. Tam kapłan sprawuje Boską Liturgię (prawosławie nie zna pojęcia mszy), tam znajduje się tabernakulum (</a:t>
            </a:r>
            <a:r>
              <a:rPr b="0" i="1" lang="pl-PL" sz="1600" spc="-1" strike="noStrike">
                <a:solidFill>
                  <a:srgbClr val="000000"/>
                </a:solidFill>
                <a:latin typeface="Calibri"/>
              </a:rPr>
              <a:t>darochranitielnica</a:t>
            </a:r>
            <a:r>
              <a:rPr b="0" lang="pl-PL"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konostas zasłania przed oczyma ludzi to, co dla nich powinno być niewidoczne. Wierni mogą tylko spoglądać na wizerunki świętych i prorokó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ole tekstowe 3"/>
          <p:cNvSpPr/>
          <p:nvPr/>
        </p:nvSpPr>
        <p:spPr>
          <a:xfrm>
            <a:off x="360360" y="108000"/>
            <a:ext cx="8639280" cy="891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konost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 Ikony namiestne i wrota</a:t>
            </a:r>
            <a:br>
              <a:rPr sz="1200"/>
            </a:br>
            <a:r>
              <a:rPr b="0" lang="pl-PL" sz="1200" spc="-1" strike="noStrike">
                <a:solidFill>
                  <a:srgbClr val="000000"/>
                </a:solidFill>
                <a:latin typeface="Calibri"/>
              </a:rPr>
              <a:t>    PD - predelle</a:t>
            </a:r>
            <a:br>
              <a:rPr sz="1200"/>
            </a:br>
            <a:r>
              <a:rPr b="0" lang="pl-PL" sz="1200" spc="-1" strike="noStrike">
                <a:solidFill>
                  <a:srgbClr val="000000"/>
                </a:solidFill>
                <a:latin typeface="Calibri"/>
              </a:rPr>
              <a:t>    CW - carskie wrota</a:t>
            </a:r>
            <a:br>
              <a:rPr sz="1200"/>
            </a:br>
            <a:r>
              <a:rPr b="0" lang="pl-PL" sz="1200" spc="-1" strike="noStrike">
                <a:solidFill>
                  <a:srgbClr val="000000"/>
                </a:solidFill>
                <a:latin typeface="Calibri"/>
              </a:rPr>
              <a:t>     Z,E - Zwiastowanie, Ewangeliści ( często Zwiastowanie umieszczane jest pomiędzy Ewangelistami)</a:t>
            </a:r>
            <a:br>
              <a:rPr sz="1200"/>
            </a:br>
            <a:r>
              <a:rPr b="0" lang="pl-PL" sz="1200" spc="-1" strike="noStrike">
                <a:solidFill>
                  <a:srgbClr val="000000"/>
                </a:solidFill>
                <a:latin typeface="Calibri"/>
              </a:rPr>
              <a:t>     Wpn, Wpd - diakońskie wrota północne, południowe</a:t>
            </a:r>
            <a:br>
              <a:rPr sz="1200"/>
            </a:br>
            <a:r>
              <a:rPr b="0" lang="pl-PL" sz="1200" spc="-1" strike="noStrike">
                <a:solidFill>
                  <a:srgbClr val="000000"/>
                </a:solidFill>
                <a:latin typeface="Calibri"/>
              </a:rPr>
              <a:t>     N1 - najbardziej czczony lokalny święty</a:t>
            </a:r>
            <a:br>
              <a:rPr sz="1200"/>
            </a:br>
            <a:r>
              <a:rPr b="0" lang="pl-PL" sz="1200" spc="-1" strike="noStrike">
                <a:solidFill>
                  <a:srgbClr val="000000"/>
                </a:solidFill>
                <a:latin typeface="Calibri"/>
              </a:rPr>
              <a:t>     N2 - M.B. Hodegetria lub Eleusa</a:t>
            </a:r>
            <a:br>
              <a:rPr sz="1200"/>
            </a:br>
            <a:r>
              <a:rPr b="0" lang="pl-PL" sz="1200" spc="-1" strike="noStrike">
                <a:solidFill>
                  <a:srgbClr val="000000"/>
                </a:solidFill>
                <a:latin typeface="Calibri"/>
              </a:rPr>
              <a:t>     N3 - Chrystus Nauczający</a:t>
            </a:r>
            <a:br>
              <a:rPr sz="1200"/>
            </a:br>
            <a:r>
              <a:rPr b="0" lang="pl-PL" sz="1200" spc="-1" strike="noStrike">
                <a:solidFill>
                  <a:srgbClr val="000000"/>
                </a:solidFill>
                <a:latin typeface="Calibri"/>
              </a:rPr>
              <a:t>     N4 - Ikona chramowa - patron cerkw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I. Rząd świąteczny</a:t>
            </a:r>
            <a:br>
              <a:rPr sz="1200"/>
            </a:br>
            <a:r>
              <a:rPr b="0" lang="pl-PL" sz="1200" spc="-1" strike="noStrike">
                <a:solidFill>
                  <a:srgbClr val="000000"/>
                </a:solidFill>
                <a:latin typeface="Calibri"/>
              </a:rPr>
              <a:t>     OW - Ostatnia Wieczerza</a:t>
            </a:r>
            <a:br>
              <a:rPr sz="1200"/>
            </a:br>
            <a:r>
              <a:rPr b="0" lang="pl-PL" sz="1200" spc="-1" strike="noStrike">
                <a:solidFill>
                  <a:srgbClr val="000000"/>
                </a:solidFill>
                <a:latin typeface="Calibri"/>
              </a:rPr>
              <a:t>     P1 - P12 -dwunadiesiatyje prazdniki (wielkie świę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II. Grupa Deesis</a:t>
            </a:r>
            <a:br>
              <a:rPr sz="1200"/>
            </a:br>
            <a:r>
              <a:rPr b="0" lang="pl-PL" sz="1200" spc="-1" strike="noStrike">
                <a:solidFill>
                  <a:srgbClr val="000000"/>
                </a:solidFill>
                <a:latin typeface="Calibri"/>
              </a:rPr>
              <a:t>      D - postacie z grupy Dees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IV. Rząd proroków i Ojców Kościoła</a:t>
            </a:r>
            <a:br>
              <a:rPr sz="1200"/>
            </a:br>
            <a:r>
              <a:rPr b="0" lang="pl-PL" sz="1200" spc="-1" strike="noStrike">
                <a:solidFill>
                  <a:srgbClr val="000000"/>
                </a:solidFill>
                <a:latin typeface="Calibri"/>
              </a:rPr>
              <a:t>      PR - prorocy</a:t>
            </a:r>
            <a:br>
              <a:rPr sz="1200"/>
            </a:br>
            <a:r>
              <a:rPr b="0" lang="pl-PL" sz="1200" spc="-1" strike="noStrike">
                <a:solidFill>
                  <a:srgbClr val="000000"/>
                </a:solidFill>
                <a:latin typeface="Calibri"/>
              </a:rPr>
              <a:t>      MB - Matka Boska Modląca si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V. PA – Patriarchow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Grafika:Ikonostas2.jpg"/>
          <p:cNvPicPr/>
          <p:nvPr/>
        </p:nvPicPr>
        <p:blipFill>
          <a:blip r:embed="rId1"/>
          <a:stretch/>
        </p:blipFill>
        <p:spPr>
          <a:xfrm>
            <a:off x="3214800" y="500040"/>
            <a:ext cx="3916080" cy="3017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ole tekstowe 3"/>
          <p:cNvSpPr/>
          <p:nvPr/>
        </p:nvSpPr>
        <p:spPr>
          <a:xfrm>
            <a:off x="360360" y="108000"/>
            <a:ext cx="8639280" cy="88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arskie Wro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Carskie Wrota </a:t>
            </a:r>
            <a:r>
              <a:rPr b="0" lang="pl-PL" sz="1600" spc="-1" strike="noStrike">
                <a:solidFill>
                  <a:srgbClr val="000000"/>
                </a:solidFill>
                <a:latin typeface="Calibri"/>
              </a:rPr>
              <a:t>- w środku rzędu umieszczone są carskie wrota, otwierane tylko podczas niektórych momentów nabożeństwa (wyjątkiem jest Tydzień Paschalny, wtedy carskie wrota są otwarte przez cały czas). Przechodzić przez nie może jedynie kapłan pełniący posługę. W czasie Boskiej Liturgii wynosi przez nie Ciało i Krew Jezusa Chrystusa. Na ich skrzydłach rzeźbione jest drzewo Jessego i malowane są postacie czterech ewangelistów a w górnej,(czasami w środkowej) części przedstawiana jest scena Zwiastowan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Święta Góra Grabar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Grabarka</a:t>
            </a:r>
            <a:r>
              <a:rPr b="0" lang="pl-PL" sz="1600" spc="-1" strike="noStrike">
                <a:solidFill>
                  <a:srgbClr val="000000"/>
                </a:solidFill>
                <a:latin typeface="Calibri"/>
              </a:rPr>
              <a:t> - góra położona obok wsi o tej samej nazwie w województwie podlaskim, powiecie siemiatyckim, w gminie Nurzec-Stacja. Jest najważniejszym miejscem kultu religijnego dla wyznawców prawosławia w Polsce, tak jak dla katolików jest nim Jasna Góra. Współczesne pielgrzymki na Grabarkę mają charakter ekumeniczn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2" descr="d4c4b0af75ae43b9med"/>
          <p:cNvPicPr/>
          <p:nvPr/>
        </p:nvPicPr>
        <p:blipFill>
          <a:blip r:embed="rId1"/>
          <a:stretch/>
        </p:blipFill>
        <p:spPr>
          <a:xfrm>
            <a:off x="2857680" y="2219400"/>
            <a:ext cx="3429000" cy="256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3"/>
          <p:cNvSpPr/>
          <p:nvPr/>
        </p:nvSpPr>
        <p:spPr>
          <a:xfrm>
            <a:off x="360360" y="108000"/>
            <a:ext cx="8639280" cy="80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otestantyz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Protestantyzm</a:t>
            </a:r>
            <a:r>
              <a:rPr b="0" lang="pl-PL" sz="1600" spc="-1" strike="noStrike">
                <a:solidFill>
                  <a:srgbClr val="000000"/>
                </a:solidFill>
                <a:latin typeface="Calibri"/>
              </a:rPr>
              <a:t> – jeden z głównych kierunków chrześcijaństwa, składający się z wyznań religijnych powstałych głównie na skutek ruchów reformatorskich wewnątrz Kościoła rzymskokatolickiego rozpoczętych w XVI wieku przez wystąpienie Marcina Lutra. Sam termin „protestantyzm” pochodzi od protestu złożonego przez luteranów 6 księstw i 14 miast w 1529 roku podczas sejmu w Spirze przeciw uchwale zabraniającej przechodzenia na luteraniz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ecnie w łonie protestantyzmu występują dwa główne nurty: ewangelicyzm (m.in. luteranie i kalwini) oraz ewangelikalizm (m.in. baptyści i zielonoświątkowcy). Podstawową cechą łączącą wszystkie Kościoły protestanckie jest akceptowanie pięciu zasad protestantyzmu: sola scriptura, solus Christus, sola fide, sola gratia i soli Deo gloria oraz zasady powszechnego kapłaństwa wszystkich wierzącyc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a świecie żyje 590 milionów protestantów, co stawia protestantyzm na drugim miejscu po katolicyzmie, pod względem liczby zrzeszonych w tym nurcie chrześcija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Zbór </a:t>
            </a:r>
            <a:r>
              <a:rPr b="0" lang="pl-PL" sz="1600" spc="-1" strike="noStrike">
                <a:solidFill>
                  <a:srgbClr val="000000"/>
                </a:solidFill>
                <a:latin typeface="Calibri"/>
              </a:rPr>
              <a:t>- (znaczenie współczesne - </a:t>
            </a:r>
            <a:r>
              <a:rPr b="0" i="1" lang="pl-PL" sz="1600" spc="-1" strike="noStrike">
                <a:solidFill>
                  <a:srgbClr val="000000"/>
                </a:solidFill>
                <a:latin typeface="Calibri"/>
              </a:rPr>
              <a:t>zgromadzenie</a:t>
            </a:r>
            <a:r>
              <a:rPr b="0" lang="pl-PL" sz="1600" spc="-1" strike="noStrike">
                <a:solidFill>
                  <a:srgbClr val="000000"/>
                </a:solidFill>
                <a:latin typeface="Calibri"/>
              </a:rPr>
              <a:t>) jest zbliżone znaczeniem do słowa </a:t>
            </a:r>
            <a:r>
              <a:rPr b="0" i="1" lang="pl-PL" sz="1600" spc="-1" strike="noStrike">
                <a:solidFill>
                  <a:srgbClr val="000000"/>
                </a:solidFill>
                <a:latin typeface="Calibri"/>
              </a:rPr>
              <a:t>wspólnota</a:t>
            </a:r>
            <a:r>
              <a:rPr b="0" lang="pl-PL" sz="1600" spc="-1" strike="noStrike">
                <a:solidFill>
                  <a:srgbClr val="000000"/>
                </a:solidFill>
                <a:latin typeface="Calibri"/>
              </a:rPr>
              <a:t> i oznacza wiernych podstawowej jednostki organizacyjnej danego Kościoła protestanckiego. Członków zboru określa się mianem </a:t>
            </a:r>
            <a:r>
              <a:rPr b="0" i="1" lang="pl-PL" sz="1600" spc="-1" strike="noStrike">
                <a:solidFill>
                  <a:srgbClr val="000000"/>
                </a:solidFill>
                <a:latin typeface="Calibri"/>
              </a:rPr>
              <a:t>zborowników</a:t>
            </a:r>
            <a:r>
              <a:rPr b="0" lang="pl-PL" sz="1600" spc="-1" strike="noStrike">
                <a:solidFill>
                  <a:srgbClr val="000000"/>
                </a:solidFill>
                <a:latin typeface="Calibri"/>
              </a:rPr>
              <a:t>. Na czele zboru stoi zwykle pastor lub rada starszych. W zależności od eklezjologii danego wyznania zbór jest postrzegany jako odpowiednik katolickiej parafii lub diecezji (w znaczeniu kościoła partykularn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3"/>
          <p:cNvSpPr/>
          <p:nvPr/>
        </p:nvSpPr>
        <p:spPr>
          <a:xfrm>
            <a:off x="360360" y="108000"/>
            <a:ext cx="8639280" cy="849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otestantyz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ościół Pokoju pw. Trójcy Świętej w Świdnicy – </a:t>
            </a:r>
            <a:r>
              <a:rPr b="0" lang="pl-PL" sz="1600" spc="-1" strike="noStrike">
                <a:solidFill>
                  <a:srgbClr val="000000"/>
                </a:solidFill>
                <a:latin typeface="Calibri"/>
              </a:rPr>
              <a:t> jest zabytkowym budynkiem sakralnym wybudowanym na mocy porozumień traktatu westfalskiego zawartego w 1648 i kończącego wojnę trzydziestoletnią. Należy do świdnickiej parafii Kościoła Ewangelicko-Augsburskiego w Pols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isany na Listę Światowego Dziedzictwa Kulturowego UNES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ościół Pokoju w Jaworze</a:t>
            </a:r>
            <a:r>
              <a:rPr b="0" lang="pl-PL" sz="1600" spc="-1" strike="noStrike">
                <a:solidFill>
                  <a:srgbClr val="000000"/>
                </a:solidFill>
                <a:latin typeface="Calibri"/>
              </a:rPr>
              <a:t> - ewangelicki kościół usytuowany w mieście Jawor, jest zabytkowym budynkiem sakralnym wybudowanym na mocy porozumień traktat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westfalskiego zawartego w 1648 i kończącego wojn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trzydziestoletni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en obiekt wyróżnia się na tle historii sztuki europejski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r>
              <a:rPr b="0" lang="pl-PL" sz="1600" spc="-1" strike="noStrike">
                <a:solidFill>
                  <a:srgbClr val="000000"/>
                </a:solidFill>
                <a:latin typeface="Calibri"/>
              </a:rPr>
              <a:t>II połowy XVII w. ze względu na swą unikatowość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 wysokie walory artystycz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pisany na Listę Światowego Dziedzictwa Kulturowego UNES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2" descr="Grafika:Kosciol pokoju w swidnicy wisnia6522.jpg"/>
          <p:cNvPicPr/>
          <p:nvPr/>
        </p:nvPicPr>
        <p:blipFill>
          <a:blip r:embed="rId1"/>
          <a:stretch/>
        </p:blipFill>
        <p:spPr>
          <a:xfrm>
            <a:off x="2428920" y="1819440"/>
            <a:ext cx="2857320" cy="1752480"/>
          </a:xfrm>
          <a:prstGeom prst="rect">
            <a:avLst/>
          </a:prstGeom>
          <a:ln w="0">
            <a:noFill/>
          </a:ln>
        </p:spPr>
      </p:pic>
      <p:pic>
        <p:nvPicPr>
          <p:cNvPr id="168" name="Picture 3" descr="Grafika:Jawor - zbór.jpg"/>
          <p:cNvPicPr/>
          <p:nvPr/>
        </p:nvPicPr>
        <p:blipFill>
          <a:blip r:embed="rId2"/>
          <a:stretch/>
        </p:blipFill>
        <p:spPr>
          <a:xfrm>
            <a:off x="6357960" y="4300560"/>
            <a:ext cx="15368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ole tekstowe 3"/>
          <p:cNvSpPr/>
          <p:nvPr/>
        </p:nvSpPr>
        <p:spPr>
          <a:xfrm>
            <a:off x="360360" y="108000"/>
            <a:ext cx="8639280" cy="576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bawka ruchoma – żołnierze, ok. Rab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rzeciądze, ok. Nowego Sąc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ycinanka kurpiows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w2"/>
          <p:cNvPicPr/>
          <p:nvPr/>
        </p:nvPicPr>
        <p:blipFill>
          <a:blip r:embed="rId1"/>
          <a:stretch/>
        </p:blipFill>
        <p:spPr>
          <a:xfrm>
            <a:off x="642960" y="4143240"/>
            <a:ext cx="2390760" cy="2390760"/>
          </a:xfrm>
          <a:prstGeom prst="rect">
            <a:avLst/>
          </a:prstGeom>
          <a:ln w="0">
            <a:noFill/>
          </a:ln>
        </p:spPr>
      </p:pic>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3" descr=""/>
          <p:cNvPicPr/>
          <p:nvPr/>
        </p:nvPicPr>
        <p:blipFill>
          <a:blip r:embed="rId2"/>
          <a:stretch/>
        </p:blipFill>
        <p:spPr>
          <a:xfrm>
            <a:off x="5572080" y="2786040"/>
            <a:ext cx="3130560" cy="1654200"/>
          </a:xfrm>
          <a:prstGeom prst="rect">
            <a:avLst/>
          </a:prstGeom>
          <a:ln w="0">
            <a:noFill/>
          </a:ln>
        </p:spPr>
      </p:pic>
      <p:sp>
        <p:nvSpPr>
          <p:cNvPr id="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zabawka"/>
          <p:cNvPicPr/>
          <p:nvPr/>
        </p:nvPicPr>
        <p:blipFill>
          <a:blip r:embed="rId3"/>
          <a:stretch/>
        </p:blipFill>
        <p:spPr>
          <a:xfrm>
            <a:off x="4572000" y="785880"/>
            <a:ext cx="4071960" cy="1523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ole tekstowe 3"/>
          <p:cNvSpPr/>
          <p:nvPr/>
        </p:nvSpPr>
        <p:spPr>
          <a:xfrm>
            <a:off x="360360" y="108000"/>
            <a:ext cx="8639280" cy="849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Judaiz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Judaizm</a:t>
            </a:r>
            <a:r>
              <a:rPr b="0" lang="pl-PL" sz="1600" spc="-1" strike="noStrike">
                <a:solidFill>
                  <a:srgbClr val="000000"/>
                </a:solidFill>
                <a:latin typeface="Calibri"/>
              </a:rPr>
              <a:t> – religia monoteistyczna, ukształtowana w II tysiącleciu p.n.e.; stanowi religię narodową Żydów. Jest też pierwszą religią abrahamową. Jej wyznawcy znajdują się na całym świecie, ale obecnie jest ich najwięcej w Stanach Zjednoczonych - 5,6 mln i Izraelu - 4,7 mln. Podstawą judaizmu jest wiara w jednego Boga (osobowego, niepodzielnego, będącego bytem niematerialnym, bezcielesnym i wiecznym), będącego nie tylko stwórcą świata, ale także jego stałym "nadzorcą", czy też "opiekunem". Bóg ten zawarł z ludem Izraela wieczyste przymierze, obiecując ochronę i pomoc w zamian za podporządkowanie się nakazom Boga. Z Judaizmu wywodzi się Chrześcijaństw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Gwiazda Dawida (zwana też Tarczą Dawi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gen Dawid - </a:t>
            </a:r>
            <a:r>
              <a:rPr b="0" lang="he-IL" sz="1600" spc="-1" strike="noStrike">
                <a:solidFill>
                  <a:srgbClr val="000000"/>
                </a:solidFill>
                <a:latin typeface="Calibri"/>
                <a:cs typeface="Arial"/>
              </a:rPr>
              <a:t>מגן דוד</a:t>
            </a:r>
            <a:r>
              <a:rPr b="0" lang="pl-PL" sz="1600" spc="-1" strike="noStrike">
                <a:solidFill>
                  <a:srgbClr val="000000"/>
                </a:solidFill>
                <a:latin typeface="Calibri"/>
              </a:rPr>
              <a:t>, najbardzi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nany z symboli judaizm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ynagoga – inaczej </a:t>
            </a:r>
            <a:r>
              <a:rPr b="0" i="1" lang="pl-PL" sz="1600" spc="-1" strike="noStrike">
                <a:solidFill>
                  <a:srgbClr val="000000"/>
                </a:solidFill>
                <a:latin typeface="Calibri"/>
              </a:rPr>
              <a:t>bożnica</a:t>
            </a:r>
            <a:r>
              <a:rPr b="0" lang="pl-PL" sz="1600" spc="-1" strike="noStrike">
                <a:solidFill>
                  <a:srgbClr val="000000"/>
                </a:solidFill>
                <a:latin typeface="Calibri"/>
              </a:rPr>
              <a:t> lub </a:t>
            </a:r>
            <a:r>
              <a:rPr b="0" i="1" lang="pl-PL" sz="1600" spc="-1" strike="noStrike">
                <a:solidFill>
                  <a:srgbClr val="000000"/>
                </a:solidFill>
                <a:latin typeface="Calibri"/>
              </a:rPr>
              <a:t>bóżnica</a:t>
            </a:r>
            <a:r>
              <a:rPr b="0" lang="pl-PL" sz="1600" spc="-1" strike="noStrike">
                <a:solidFill>
                  <a:srgbClr val="000000"/>
                </a:solidFill>
                <a:latin typeface="Calibri"/>
              </a:rPr>
              <a: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zyli miejsce poświęcone Bogu, dom modlitwy, szkoła żydows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irkut – cmentarz żydows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acewa – żydowska stela nagrob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175px-Star_of_David"/>
          <p:cNvPicPr/>
          <p:nvPr/>
        </p:nvPicPr>
        <p:blipFill>
          <a:blip r:embed="rId1"/>
          <a:stretch/>
        </p:blipFill>
        <p:spPr>
          <a:xfrm>
            <a:off x="5357880" y="2571840"/>
            <a:ext cx="1670040" cy="1923840"/>
          </a:xfrm>
          <a:prstGeom prst="rect">
            <a:avLst/>
          </a:prstGeom>
          <a:ln w="0">
            <a:noFill/>
          </a:ln>
        </p:spPr>
      </p:pic>
      <p:pic>
        <p:nvPicPr>
          <p:cNvPr id="172" name="Picture 3" descr="250px-Cieszowa_macewa_6p"/>
          <p:cNvPicPr/>
          <p:nvPr/>
        </p:nvPicPr>
        <p:blipFill>
          <a:blip r:embed="rId2"/>
          <a:stretch/>
        </p:blipFill>
        <p:spPr>
          <a:xfrm>
            <a:off x="7143840" y="4357800"/>
            <a:ext cx="1523880" cy="2286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ole tekstowe 3"/>
          <p:cNvSpPr/>
          <p:nvPr/>
        </p:nvSpPr>
        <p:spPr>
          <a:xfrm>
            <a:off x="360360" y="108000"/>
            <a:ext cx="8639280" cy="873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sl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Islam</a:t>
            </a:r>
            <a:r>
              <a:rPr b="0" lang="pl-PL" sz="1600" spc="-1" strike="noStrike">
                <a:solidFill>
                  <a:srgbClr val="000000"/>
                </a:solidFill>
                <a:latin typeface="Calibri"/>
              </a:rPr>
              <a:t> (arab. </a:t>
            </a:r>
            <a:r>
              <a:rPr b="1" lang="ar-SA" sz="1600" spc="-1" strike="noStrike">
                <a:solidFill>
                  <a:srgbClr val="000000"/>
                </a:solidFill>
                <a:latin typeface="Calibri"/>
                <a:cs typeface="Arial"/>
              </a:rPr>
              <a:t>الإسلام</a:t>
            </a:r>
            <a:r>
              <a:rPr b="0" lang="pl-PL" sz="1600" spc="-1" strike="noStrike">
                <a:solidFill>
                  <a:srgbClr val="000000"/>
                </a:solidFill>
                <a:latin typeface="Calibri"/>
              </a:rPr>
              <a:t>) – religia monoteistyczna, założona przez Mahometa, druga na świecie pod względem liczby wyznawców po chrześcijaństw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łowo </a:t>
            </a:r>
            <a:r>
              <a:rPr b="0" i="1" lang="pl-PL" sz="1600" spc="-1" strike="noStrike">
                <a:solidFill>
                  <a:srgbClr val="000000"/>
                </a:solidFill>
                <a:latin typeface="Calibri"/>
              </a:rPr>
              <a:t>islam</a:t>
            </a:r>
            <a:r>
              <a:rPr b="0" lang="pl-PL" sz="1600" spc="-1" strike="noStrike">
                <a:solidFill>
                  <a:srgbClr val="000000"/>
                </a:solidFill>
                <a:latin typeface="Calibri"/>
              </a:rPr>
              <a:t> w języku arabskim oznacza </a:t>
            </a:r>
            <a:r>
              <a:rPr b="0" i="1" lang="pl-PL" sz="1600" spc="-1" strike="noStrike">
                <a:solidFill>
                  <a:srgbClr val="000000"/>
                </a:solidFill>
                <a:latin typeface="Calibri"/>
              </a:rPr>
              <a:t>poddanie się Bogu</a:t>
            </a:r>
            <a:r>
              <a:rPr b="0" lang="pl-PL" sz="1600" spc="-1" strike="noStrike">
                <a:solidFill>
                  <a:srgbClr val="000000"/>
                </a:solidFill>
                <a:latin typeface="Calibri"/>
              </a:rPr>
              <a:t>. Apologeci i misjonarze muzułmańscy wywodzą często słowo islam od słowa </a:t>
            </a:r>
            <a:r>
              <a:rPr b="0" i="1" lang="pl-PL" sz="1600" spc="-1" strike="noStrike">
                <a:solidFill>
                  <a:srgbClr val="000000"/>
                </a:solidFill>
                <a:latin typeface="Calibri"/>
              </a:rPr>
              <a:t>salām</a:t>
            </a:r>
            <a:r>
              <a:rPr b="0" lang="pl-PL" sz="1600" spc="-1" strike="noStrike">
                <a:solidFill>
                  <a:srgbClr val="000000"/>
                </a:solidFill>
                <a:latin typeface="Calibri"/>
              </a:rPr>
              <a:t> - pokó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czątkowym celem islamu i nauczania proroka Mahometa było połączenie wszystkich ludów arabskich w jedną wielką rodzinę muzułmańską (arab. </a:t>
            </a:r>
            <a:r>
              <a:rPr b="0" i="1" lang="pl-PL" sz="1600" spc="-1" strike="noStrike">
                <a:solidFill>
                  <a:srgbClr val="000000"/>
                </a:solidFill>
                <a:latin typeface="Calibri"/>
              </a:rPr>
              <a:t>muslim ajadani</a:t>
            </a:r>
            <a:r>
              <a:rPr b="0" lang="pl-PL" sz="1600" spc="-1" strike="noStrike">
                <a:solidFill>
                  <a:srgbClr val="000000"/>
                </a:solidFill>
                <a:latin typeface="Calibri"/>
              </a:rPr>
              <a:t>), jednak z czasem rozprzestrzenił się na cały świ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a ostatniego proroka islam uznaje Mahometa (Muhammada - wielu muzułmanów uważa, iż imienia proroka nie tłumaczy się na inne języki), a za ostatnią objawioną księgę - Koran. Przed Mahometem Allah miał zesłać wielu innych proroków, wśród nich Adama, Abrahama (arab. </a:t>
            </a:r>
            <a:r>
              <a:rPr b="0" i="1" lang="pl-PL" sz="1600" spc="-1" strike="noStrike">
                <a:solidFill>
                  <a:srgbClr val="000000"/>
                </a:solidFill>
                <a:latin typeface="Calibri"/>
              </a:rPr>
              <a:t>Ibrahim</a:t>
            </a:r>
            <a:r>
              <a:rPr b="0" lang="pl-PL" sz="1600" spc="-1" strike="noStrike">
                <a:solidFill>
                  <a:srgbClr val="000000"/>
                </a:solidFill>
                <a:latin typeface="Calibri"/>
              </a:rPr>
              <a:t>), Mojżesza (arab. </a:t>
            </a:r>
            <a:r>
              <a:rPr b="0" i="1" lang="pl-PL" sz="1600" spc="-1" strike="noStrike">
                <a:solidFill>
                  <a:srgbClr val="000000"/>
                </a:solidFill>
                <a:latin typeface="Calibri"/>
              </a:rPr>
              <a:t>Musa</a:t>
            </a:r>
            <a:r>
              <a:rPr b="0" lang="pl-PL" sz="1600" spc="-1" strike="noStrike">
                <a:solidFill>
                  <a:srgbClr val="000000"/>
                </a:solidFill>
                <a:latin typeface="Calibri"/>
              </a:rPr>
              <a:t>) i Jezusa (arab. </a:t>
            </a:r>
            <a:r>
              <a:rPr b="0" i="1" lang="pl-PL" sz="1600" spc="-1" strike="noStrike">
                <a:solidFill>
                  <a:srgbClr val="000000"/>
                </a:solidFill>
                <a:latin typeface="Calibri"/>
              </a:rPr>
              <a:t>Isa</a:t>
            </a:r>
            <a:r>
              <a:rPr b="0" lang="pl-PL" sz="1600" spc="-1" strike="noStrike">
                <a:solidFill>
                  <a:srgbClr val="000000"/>
                </a:solidFill>
                <a:latin typeface="Calibri"/>
              </a:rPr>
              <a:t>). Jednak zawarte w Koranie objawienie ma stanowić ostateczne i niezmienne przesłanie Boga do ludzi. Islam jest uważany przez wyznawców za trzecią (po judaizmie i chrześcijaństwie) i ostateczną religię objawioną. Jest obecnie drugą (po bahaizmie) najszybciej rozwijającą się pod względem liczby wiernych dużą religią światow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Koran</a:t>
            </a:r>
            <a:r>
              <a:rPr b="0" lang="pl-PL" sz="1600" spc="-1" strike="noStrike">
                <a:solidFill>
                  <a:srgbClr val="000000"/>
                </a:solidFill>
                <a:latin typeface="Calibri"/>
              </a:rPr>
              <a:t> (arab. </a:t>
            </a:r>
            <a:r>
              <a:rPr b="0" lang="ar-SA" sz="1600" spc="-1" strike="noStrike">
                <a:solidFill>
                  <a:srgbClr val="000000"/>
                </a:solidFill>
                <a:latin typeface="Calibri"/>
                <a:cs typeface="Arial"/>
              </a:rPr>
              <a:t>القُرْآن</a:t>
            </a:r>
            <a:r>
              <a:rPr b="0" lang="pl-PL" sz="1600" spc="-1" strike="noStrike">
                <a:solidFill>
                  <a:srgbClr val="000000"/>
                </a:solidFill>
                <a:latin typeface="Calibri"/>
              </a:rPr>
              <a:t> </a:t>
            </a:r>
            <a:r>
              <a:rPr b="0" i="1" lang="pl-PL" sz="1600" spc="-1" strike="noStrike">
                <a:solidFill>
                  <a:srgbClr val="000000"/>
                </a:solidFill>
                <a:latin typeface="Calibri"/>
              </a:rPr>
              <a:t>Al-Qur’ān</a:t>
            </a:r>
            <a:r>
              <a:rPr b="0" lang="pl-PL" sz="1600" spc="-1" strike="noStrike">
                <a:solidFill>
                  <a:srgbClr val="000000"/>
                </a:solidFill>
                <a:latin typeface="Calibri"/>
              </a:rPr>
              <a:t> – oznacza czytanie, recytację) – święta księga islamu, uważana przez muzułmanów za słowo Allaha. Powstał w latach 610-632. Według muzułmanów został objawiony Mahometowi przez Archanioła Gabrie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ole tekstowe 3"/>
          <p:cNvSpPr/>
          <p:nvPr/>
        </p:nvSpPr>
        <p:spPr>
          <a:xfrm>
            <a:off x="360360" y="108000"/>
            <a:ext cx="8639280" cy="89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sl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eczet w Kruszynianach</a:t>
            </a:r>
            <a:r>
              <a:rPr b="0" lang="pl-PL" sz="1600" spc="-1" strike="noStrike">
                <a:solidFill>
                  <a:srgbClr val="000000"/>
                </a:solidFill>
                <a:latin typeface="Calibri"/>
              </a:rPr>
              <a:t> zbudowany jest z drewna. Skonstruowany został prawdopodobnie w drugiej połowie XVIII wieku lub w pierwszej połowie XIX wieku (dokładna data budowy nie jest znana), na miejscu dawniejszego meczetu, który po raz pierwszy wspomniany jest w dokumentach już w 1717 roku. W 1846 roku przeszedł remont. Jest to drugi (po Bohonikach) najstarszy meczet w Polsce. Budynek zbudowano na planie prostokąta (10x13m). Od północy ozdobiony jest dwoma wieżyczkami, które zwieńczono hełmami z półksiężycem na szczyc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inaret</a:t>
            </a:r>
            <a:r>
              <a:rPr b="0" lang="pl-PL" sz="1600" spc="-1" strike="noStrike">
                <a:solidFill>
                  <a:srgbClr val="000000"/>
                </a:solidFill>
                <a:latin typeface="Calibri"/>
              </a:rPr>
              <a:t> (arab. </a:t>
            </a:r>
            <a:r>
              <a:rPr b="1" lang="ar-SA" sz="1600" spc="-1" strike="noStrike">
                <a:solidFill>
                  <a:srgbClr val="000000"/>
                </a:solidFill>
                <a:latin typeface="Calibri"/>
                <a:cs typeface="Arial"/>
              </a:rPr>
              <a:t>منارة</a:t>
            </a:r>
            <a:r>
              <a:rPr b="0" lang="pl-PL" sz="1600" spc="-1" strike="noStrike">
                <a:solidFill>
                  <a:srgbClr val="000000"/>
                </a:solidFill>
                <a:latin typeface="Calibri"/>
              </a:rPr>
              <a:t> </a:t>
            </a:r>
            <a:r>
              <a:rPr b="0" i="1" lang="pl-PL" sz="1600" spc="-1" strike="noStrike">
                <a:solidFill>
                  <a:srgbClr val="000000"/>
                </a:solidFill>
                <a:latin typeface="Calibri"/>
              </a:rPr>
              <a:t>manara</a:t>
            </a:r>
            <a:r>
              <a:rPr b="0" lang="pl-PL" sz="1600" spc="-1" strike="noStrike">
                <a:solidFill>
                  <a:srgbClr val="000000"/>
                </a:solidFill>
                <a:latin typeface="Calibri"/>
              </a:rPr>
              <a:t> - miejsce, skąd widać światło, latarnia morska) - wysoka, zwykle smukła wieża stawiana przy meczecie z nadwieszonym balkonem lub galeryjką, z którego muezin mógł nawoływać wiernych na modlitw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Grafika:Kruszyniany Mosque.jpg"/>
          <p:cNvPicPr/>
          <p:nvPr/>
        </p:nvPicPr>
        <p:blipFill>
          <a:blip r:embed="rId1"/>
          <a:stretch/>
        </p:blipFill>
        <p:spPr>
          <a:xfrm>
            <a:off x="2857680" y="2482920"/>
            <a:ext cx="3214440" cy="2803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ole tekstowe 3"/>
          <p:cNvSpPr/>
          <p:nvPr/>
        </p:nvSpPr>
        <p:spPr>
          <a:xfrm>
            <a:off x="360360" y="108000"/>
            <a:ext cx="8639280" cy="800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sl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uzułmański Cmentarz Kaukaski</a:t>
            </a:r>
            <a:r>
              <a:rPr b="0" lang="pl-PL" sz="1600" spc="-1" strike="noStrike">
                <a:solidFill>
                  <a:srgbClr val="000000"/>
                </a:solidFill>
                <a:latin typeface="Calibri"/>
              </a:rPr>
              <a:t> - cmentarz muzułmański w Warszawie, znajduje się przy ulicy Młynarskiej 6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uzułmański Cmentarz Kaukaski jest starszym z dwóch (drugi to Muzułmański Cmentarz Tatarski), istniejących w Warszawie, cmentarzy muzułmańskich. Został założony w latach trzydziestych XIX wieku i użytkowany do 1867. Chowano na nim żołnierzy wyznania muzułmańskiego z wojska rosyjskiego oraz przyjezdnych kupców i mieszkańców Warszawy. Cmentarz zamknięto po 37 latach użytkowania. Podczas powstania warszawskiego cmentarz został poważnie zniszczony przez Niemców. Spoczywa na nim Jan Buczacki uważany do niedawna za pierwszego tłumacza Koranu na język polsk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Muzułmański Cmentarz Tatarski</a:t>
            </a:r>
            <a:r>
              <a:rPr b="0" lang="pl-PL" sz="1600" spc="-1" strike="noStrike">
                <a:solidFill>
                  <a:srgbClr val="000000"/>
                </a:solidFill>
                <a:latin typeface="Calibri"/>
              </a:rPr>
              <a:t> znajduje się przy ulicy Tatarskiej 8 w Warszawie w dzielnicy Wola. Muzułmański Cmentarz Tatarski został założony w roku 1867. Jest on miejscem spoczynku Polskich Tatarów, głównie wywodzących się z obszaru Wielkiego Księstwa Litewskiego. Pochowani tu są również wyznawcy Islamu różnych narodowości, a obiekt znajduje się pod opieką Wojewódzkiego Konserwatora Zabytków. Został zniszczony przez Niemców podczas II wojny światowej (w 1942 na teren cmentarza miały wjechać niemieckie czołgi kryjąc się przed radzieckim nalotem, w 1944 w rejonie Powązek trwały zacięte walki w czasie powstania warszawski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ole tekstowe 3"/>
          <p:cNvSpPr/>
          <p:nvPr/>
        </p:nvSpPr>
        <p:spPr>
          <a:xfrm>
            <a:off x="360360" y="108000"/>
            <a:ext cx="8639280" cy="50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0" spc="-1" strike="noStrike">
                <a:solidFill>
                  <a:srgbClr val="000000"/>
                </a:solidFill>
                <a:latin typeface="Calibri"/>
              </a:rPr>
              <a:t>KONIEC </a:t>
            </a:r>
            <a:r>
              <a:rPr b="1" lang="pl-PL" sz="8000" spc="-1" strike="noStrike">
                <a:solidFill>
                  <a:srgbClr val="000000"/>
                </a:solidFill>
                <a:latin typeface="Wingdings"/>
                <a:ea typeface="Wingdings"/>
              </a:rPr>
              <a:t></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5" descr="http://cyriana.wrzuta.pl/sr/f/aGmaxxzBvCT/chomik"/>
          <p:cNvPicPr/>
          <p:nvPr/>
        </p:nvPicPr>
        <p:blipFill>
          <a:blip r:embed="rId1"/>
          <a:stretch/>
        </p:blipFill>
        <p:spPr>
          <a:xfrm>
            <a:off x="3071880" y="2500200"/>
            <a:ext cx="280512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ole tekstowe 3"/>
          <p:cNvSpPr/>
          <p:nvPr/>
        </p:nvSpPr>
        <p:spPr>
          <a:xfrm>
            <a:off x="360360" y="108000"/>
            <a:ext cx="863928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Szopka krakows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Pisanki, Kurpie</a:t>
            </a:r>
            <a:endParaRPr b="0" lang="en-US" sz="1800" spc="-1" strike="noStrike">
              <a:solidFill>
                <a:srgbClr val="000000"/>
              </a:solidFill>
              <a:latin typeface="Arial"/>
            </a:endParaRPr>
          </a:p>
        </p:txBody>
      </p:sp>
      <p:sp>
        <p:nvSpPr>
          <p:cNvPr id="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 descr="szopka1"/>
          <p:cNvPicPr/>
          <p:nvPr/>
        </p:nvPicPr>
        <p:blipFill>
          <a:blip r:embed="rId1"/>
          <a:stretch/>
        </p:blipFill>
        <p:spPr>
          <a:xfrm>
            <a:off x="5857920" y="928800"/>
            <a:ext cx="2282760" cy="3143160"/>
          </a:xfrm>
          <a:prstGeom prst="rect">
            <a:avLst/>
          </a:prstGeom>
          <a:ln w="0">
            <a:noFill/>
          </a:ln>
        </p:spPr>
      </p:pic>
      <p:pic>
        <p:nvPicPr>
          <p:cNvPr id="60" name="Picture 3" descr="71"/>
          <p:cNvPicPr/>
          <p:nvPr/>
        </p:nvPicPr>
        <p:blipFill>
          <a:blip r:embed="rId2"/>
          <a:stretch/>
        </p:blipFill>
        <p:spPr>
          <a:xfrm>
            <a:off x="500040" y="3500280"/>
            <a:ext cx="3243240" cy="243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ole tekstowe 3"/>
          <p:cNvSpPr/>
          <p:nvPr/>
        </p:nvSpPr>
        <p:spPr>
          <a:xfrm>
            <a:off x="360360" y="108000"/>
            <a:ext cx="86392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Oto niektóre z wyrobów charakterystycznych dla polskiej kultury ludowe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aselnica, ok. Olszty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aft kaszubski</a:t>
            </a:r>
            <a:endParaRPr b="0" lang="en-US" sz="1800" spc="-1" strike="noStrike">
              <a:solidFill>
                <a:srgbClr val="000000"/>
              </a:solidFill>
              <a:latin typeface="Arial"/>
            </a:endParaRPr>
          </a:p>
        </p:txBody>
      </p:sp>
      <p:sp>
        <p:nvSpPr>
          <p:cNvPr id="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haft1"/>
          <p:cNvPicPr/>
          <p:nvPr/>
        </p:nvPicPr>
        <p:blipFill>
          <a:blip r:embed="rId1"/>
          <a:stretch/>
        </p:blipFill>
        <p:spPr>
          <a:xfrm>
            <a:off x="2286000" y="3286080"/>
            <a:ext cx="2381400" cy="2908440"/>
          </a:xfrm>
          <a:prstGeom prst="rect">
            <a:avLst/>
          </a:prstGeom>
          <a:ln w="0">
            <a:noFill/>
          </a:ln>
        </p:spPr>
      </p:pic>
      <p:pic>
        <p:nvPicPr>
          <p:cNvPr id="65" name="Picture 3" descr="masielnica1"/>
          <p:cNvPicPr/>
          <p:nvPr/>
        </p:nvPicPr>
        <p:blipFill>
          <a:blip r:embed="rId2"/>
          <a:stretch/>
        </p:blipFill>
        <p:spPr>
          <a:xfrm>
            <a:off x="2857680" y="1143000"/>
            <a:ext cx="238104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ole tekstowe 3"/>
          <p:cNvSpPr/>
          <p:nvPr/>
        </p:nvSpPr>
        <p:spPr>
          <a:xfrm>
            <a:off x="360360" y="108000"/>
            <a:ext cx="863928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uż w okresie romantyzmu w kulturze ludowej upatrywano najstarszą i najbardziej autentyczną część kultury polskiej, mogącej stać się zalążkiem odrodzenia narodowego i państwoweg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ednakże w pełni tradycje polskich badań nad kulturą ludową zainicjowali w początkach XIX w. amatorzy-miłośnicy, określający swoje zainteresowanie mianem „ludolubstwa”. Byli to: Z. Dołęga-Chodakowski, T. Narbutt, Z. Gloger, K.W. Wójcicki. A O. Kolberg wydał monumentalne dzieło (80 tomów!) zawierające informacje ze wszystkich dziedzin kultury ludowej na terenie przedrozbiorowej Rzeczypospolite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2" descr="kolberg"/>
          <p:cNvPicPr/>
          <p:nvPr/>
        </p:nvPicPr>
        <p:blipFill>
          <a:blip r:embed="rId1"/>
          <a:stretch/>
        </p:blipFill>
        <p:spPr>
          <a:xfrm>
            <a:off x="500040" y="3071880"/>
            <a:ext cx="1857240" cy="280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ole tekstowe 3"/>
          <p:cNvSpPr/>
          <p:nvPr/>
        </p:nvSpPr>
        <p:spPr>
          <a:xfrm>
            <a:off x="360360" y="108000"/>
            <a:ext cx="863928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interesowanie kulturą ludową</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drugiej połowie  XIX wieku pojawiło się zjawisko artystyczne, które pojawiło się wśród inteligencji młodopolskiej tzw. chłopomania. Charakteryzowała się fascynacją folklorem i codziennym życiem chłopó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Mężczyźni z inteligencji często brali sobie za żony chłopki. Powodem owego zachwytu była wiara, że stagnacja jaka opanowała środowisko inteligencji oraz postępujący kryzys kulturowy spowodowane są życiem w mieście. Dlatego też postulowano powrót do natury, najlepiej na wieś, która miała być źródłem odnowy sił witalnych i artystycznych, nadwątlonych w wyniku dostosowania się do współczesnego trybu ży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2" descr="wyspianski05"/>
          <p:cNvPicPr/>
          <p:nvPr/>
        </p:nvPicPr>
        <p:blipFill>
          <a:blip r:embed="rId1"/>
          <a:stretch/>
        </p:blipFill>
        <p:spPr>
          <a:xfrm>
            <a:off x="642960" y="3357720"/>
            <a:ext cx="280044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49:30Z</dcterms:created>
  <dc:creator>Michał Karkowski</dc:creator>
  <dc:description/>
  <dc:language>en-US</dc:language>
  <cp:lastModifiedBy>TORO</cp:lastModifiedBy>
  <dcterms:modified xsi:type="dcterms:W3CDTF">2017-05-25T08:57:06Z</dcterms:modified>
  <cp:revision>36</cp:revision>
  <dc:subject/>
  <dc:title>Slajd 1</dc:title>
</cp:coreProperties>
</file>